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40D6-22F8-4F89-AD70-CFAF6EBA8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ebhome.idirect.com/~jadams/electronics/spc_circuits.htm" TargetMode="External"/><Relationship Id="rId2" Type="http://schemas.openxmlformats.org/officeDocument/2006/relationships/hyperlink" Target="http://webhome.idirect.com/~jadams/electronics/spc_circuits.ht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circuit is a path for electrons to flow through. The path is from a power sources negative terminal, through the various components and on to the positive termi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a circle. The paths may split off here and there but they always form a line from the negative to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gatively charged electrons in a conductor are attracted to the positive side of the power source. </a:t>
            </a:r>
            <a:br>
              <a:rPr sz="1200"/>
            </a:br>
            <a:br>
              <a:rPr sz="1200"/>
            </a:br>
            <a:r>
              <a:rPr b="0" lang="en-US" sz="1200" spc="-1" strike="noStrike">
                <a:solidFill>
                  <a:srgbClr val="000000"/>
                </a:solidFill>
                <a:latin typeface="Times New Roman"/>
              </a:rPr>
              <a:t> </a:t>
            </a:r>
            <a:r>
              <a:rPr b="1" lang="en-US" sz="1200" spc="-1" strike="noStrike" u="sng">
                <a:solidFill>
                  <a:srgbClr val="000000"/>
                </a:solidFill>
                <a:uFillTx/>
                <a:latin typeface="Times New Roman"/>
              </a:rPr>
              <a:t>Simple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If we break a circuit down to it's elementary blocks we get: </a:t>
            </a:r>
            <a:br>
              <a:rPr sz="1200"/>
            </a:br>
            <a:r>
              <a:rPr b="0" lang="en-US" sz="1200" spc="-1" strike="noStrike">
                <a:solidFill>
                  <a:srgbClr val="000000"/>
                </a:solidFill>
                <a:latin typeface="Times New Roman"/>
              </a:rPr>
              <a:t>1) A Power Source -- eg: battery </a:t>
            </a:r>
            <a:br>
              <a:rPr sz="1200"/>
            </a:br>
            <a:r>
              <a:rPr b="0" lang="en-US" sz="1200" spc="-1" strike="noStrike">
                <a:solidFill>
                  <a:srgbClr val="000000"/>
                </a:solidFill>
                <a:latin typeface="Times New Roman"/>
              </a:rPr>
              <a:t>2) A Path -- eg: a wire </a:t>
            </a:r>
            <a:br>
              <a:rPr sz="1200"/>
            </a:br>
            <a:r>
              <a:rPr b="0" lang="en-US" sz="1200" spc="-1" strike="noStrike">
                <a:solidFill>
                  <a:srgbClr val="000000"/>
                </a:solidFill>
                <a:latin typeface="Times New Roman"/>
              </a:rPr>
              <a:t>3) A Load -- eg: a lamp </a:t>
            </a:r>
            <a:br>
              <a:rPr sz="1200"/>
            </a:br>
            <a:r>
              <a:rPr b="0" lang="en-US" sz="1200" spc="-1" strike="noStrike">
                <a:solidFill>
                  <a:srgbClr val="000000"/>
                </a:solidFill>
                <a:latin typeface="Times New Roman"/>
              </a:rPr>
              <a:t>4) A Control -- eg: switch (Optional) </a:t>
            </a:r>
            <a:br>
              <a:rPr sz="1200"/>
            </a:br>
            <a:r>
              <a:rPr b="0" lang="en-US" sz="1200" spc="-1" strike="noStrike">
                <a:solidFill>
                  <a:srgbClr val="000000"/>
                </a:solidFill>
                <a:latin typeface="Times New Roman"/>
              </a:rPr>
              <a:t>5) An indicator -- eg: Meter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Series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ries circuit is one with all the loads in a row. Like links in a chain. There is only ONE path for the electricity to flow. If this circuit was a string of light bulbs, and one blew out, the remaining bulbs would turn off. There are specific properties to this circuit that will be described in </a:t>
            </a:r>
            <a:r>
              <a:rPr b="0" lang="en-US" sz="1200" spc="-1" strike="noStrike" u="sng">
                <a:solidFill>
                  <a:srgbClr val="ccccff"/>
                </a:solidFill>
                <a:uFillTx/>
                <a:latin typeface="Times New Roman"/>
                <a:hlinkClick r:id="rId1"/>
              </a:rPr>
              <a:t>another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quiggly lines in the diagram are the symbol for Resistors. The parallel lines are the symbol for a batt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Parallel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parallel circuit is one that has two or more paths for the electricity to flow. In other words, the loads are parallel to each other. If the loads in this circuit were light bulbs and one blew out there is still current flowing to the others as they are still in a direct path from the negative to positive terminals of the battery. There are specific properties to a parallel circuit that will be described in </a:t>
            </a:r>
            <a:r>
              <a:rPr b="0" lang="en-US" sz="1200" spc="-1" strike="noStrike" u="sng">
                <a:solidFill>
                  <a:srgbClr val="ccccff"/>
                </a:solidFill>
                <a:uFillTx/>
                <a:latin typeface="Times New Roman"/>
                <a:hlinkClick r:id="rId2"/>
              </a:rPr>
              <a:t>another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Combination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combination circuit is one that has a "combination" of series and parallel paths for the electricity to flow. Its properties are a synthesis of the two. In this example, the parallel section of the circuit is like a sub-circuit and actually is part of an over-all series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F2E1-F85E-4A96-ABAC-4FE66E823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329D4-0FB5-4908-99C7-79E16F98D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51191-036E-430E-A5ED-586402556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353C8-7688-4FB3-B47F-0D83128E8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4B85B-446A-4E86-A4DA-6A832B585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FD798-265D-479A-BF8D-855B9210F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2C7FF-B913-41F7-A0CA-C4AE57EC6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B2630-389B-4710-887C-845C316D4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F27AB-0DA3-4F54-9465-650A8F6B5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47E55-29D0-46CB-BB94-9683BACE6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72596-7C2F-41F6-BCAF-8900DB8AD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ACC1-A3DC-403A-95F0-F32AE4DC6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4515-E068-4224-BB4C-E72D2C8BB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B79A-17F7-4728-8163-B24C37A8E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1spiral%20notebook" descr=""/>
          <p:cNvPicPr/>
          <p:nvPr/>
        </p:nvPicPr>
        <p:blipFill>
          <a:blip r:embed="rId2"/>
          <a:stretch/>
        </p:blipFill>
        <p:spPr>
          <a:xfrm>
            <a:off x="0" y="0"/>
            <a:ext cx="9144000" cy="1809720"/>
          </a:xfrm>
          <a:prstGeom prst="rect">
            <a:avLst/>
          </a:prstGeom>
          <a:ln w="0">
            <a:noFill/>
          </a:ln>
        </p:spPr>
      </p:pic>
      <p:pic>
        <p:nvPicPr>
          <p:cNvPr id="6" name="1spiral%20notebook" descr=""/>
          <p:cNvPicPr/>
          <p:nvPr/>
        </p:nvPicPr>
        <p:blipFill>
          <a:blip r:embed="rId3"/>
          <a:stretch/>
        </p:blipFill>
        <p:spPr>
          <a:xfrm>
            <a:off x="0" y="1752480"/>
            <a:ext cx="9144000" cy="1809720"/>
          </a:xfrm>
          <a:prstGeom prst="rect">
            <a:avLst/>
          </a:prstGeom>
          <a:ln w="0">
            <a:noFill/>
          </a:ln>
        </p:spPr>
      </p:pic>
      <p:pic>
        <p:nvPicPr>
          <p:cNvPr id="7" name="1spiral%20notebook" descr=""/>
          <p:cNvPicPr/>
          <p:nvPr/>
        </p:nvPicPr>
        <p:blipFill>
          <a:blip r:embed="rId4"/>
          <a:stretch/>
        </p:blipFill>
        <p:spPr>
          <a:xfrm>
            <a:off x="0" y="3200400"/>
            <a:ext cx="9144000" cy="1828800"/>
          </a:xfrm>
          <a:prstGeom prst="rect">
            <a:avLst/>
          </a:prstGeom>
          <a:ln w="0">
            <a:noFill/>
          </a:ln>
        </p:spPr>
      </p:pic>
      <p:pic>
        <p:nvPicPr>
          <p:cNvPr id="8" name="1spiral%20notebook" descr=""/>
          <p:cNvPicPr/>
          <p:nvPr/>
        </p:nvPicPr>
        <p:blipFill>
          <a:blip r:embed="rId5"/>
          <a:stretch/>
        </p:blipFill>
        <p:spPr>
          <a:xfrm>
            <a:off x="0" y="5029200"/>
            <a:ext cx="9144000" cy="1828800"/>
          </a:xfrm>
          <a:prstGeom prst="rect">
            <a:avLst/>
          </a:prstGeom>
          <a:ln w="0">
            <a:noFill/>
          </a:ln>
        </p:spPr>
      </p:pic>
      <p:sp>
        <p:nvSpPr>
          <p:cNvPr id="9" name=""/>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 name=""/>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Script MT Bold"/>
              </a:rPr>
              <a:t>Current and Circuits</a:t>
            </a:r>
            <a:endParaRPr b="0" lang="en-US" sz="6000" spc="-1" strike="noStrike">
              <a:solidFill>
                <a:srgbClr val="000000"/>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ircuit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a:t>
            </a:r>
            <a:r>
              <a:rPr b="0" lang="en-US" sz="3200" spc="-1" strike="noStrike">
                <a:solidFill>
                  <a:srgbClr val="990000"/>
                </a:solidFill>
                <a:latin typeface="Times New Roman"/>
              </a:rPr>
              <a:t>Schemat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a:t>
            </a:r>
            <a:r>
              <a:rPr b="0" lang="en-US" sz="3200" spc="-1" strike="noStrike">
                <a:solidFill>
                  <a:srgbClr val="990000"/>
                </a:solidFill>
                <a:latin typeface="Times New Roman"/>
              </a:rPr>
              <a:t>Use of Met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DA106F-A920-4FBF-A6E4-BBD04D6C6C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Ammeter</a:t>
            </a:r>
            <a:endParaRPr b="0" lang="en-US" sz="5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device measures current.</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a Galvanometer wired in parallel to a resister (shunt). </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mmeters are connected in series to the circui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227C5787-7703-481C-B016-8498D75FD03D}" type="slidenum">
              <a:t>10</a:t>
            </a:fld>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Voltmeter</a:t>
            </a:r>
            <a:endParaRPr b="0" lang="en-US" sz="60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device measures electric potential…voltag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a Galvanometer wired in series with a resistor (a multiplier.)</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oltmeters are connected in parallel to the load</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7B79640-B42F-4B58-B4CC-4924F60AF1CA}" type="slidenum">
              <a:t>11</a:t>
            </a:fld>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66960" y="-360"/>
            <a:ext cx="716256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Fuses and Shorts</a:t>
            </a:r>
            <a:endParaRPr b="0" lang="en-US" sz="6000" spc="-1" strike="noStrike">
              <a:solidFill>
                <a:srgbClr val="000000"/>
              </a:solidFill>
              <a:latin typeface="Times New Roman"/>
            </a:endParaRPr>
          </a:p>
        </p:txBody>
      </p:sp>
      <p:sp>
        <p:nvSpPr>
          <p:cNvPr id="161" name="PlaceHolder 2"/>
          <p:cNvSpPr>
            <a:spLocks noGrp="1"/>
          </p:cNvSpPr>
          <p:nvPr>
            <p:ph/>
          </p:nvPr>
        </p:nvSpPr>
        <p:spPr>
          <a:xfrm>
            <a:off x="456840" y="2437920"/>
            <a:ext cx="8381880" cy="1295640"/>
          </a:xfrm>
          <a:prstGeom prst="rect">
            <a:avLst/>
          </a:prstGeom>
          <a:noFill/>
          <a:ln w="0">
            <a:noFill/>
          </a:ln>
        </p:spPr>
        <p:txBody>
          <a:bodyPr lIns="90360" rIns="90360" tIns="44280" bIns="44280" anchor="t">
            <a:normAutofit fontScale="95000"/>
          </a:bodyPr>
          <a:p>
            <a:pPr marL="325800" indent="0">
              <a:lnSpc>
                <a:spcPct val="99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n electric circuit gets </a:t>
            </a:r>
            <a:r>
              <a:rPr b="1" lang="en-US" sz="2800" spc="-1" strike="noStrike">
                <a:solidFill>
                  <a:srgbClr val="000000"/>
                </a:solidFill>
                <a:latin typeface="Times New Roman"/>
              </a:rPr>
              <a:t>“overlo</a:t>
            </a:r>
            <a:r>
              <a:rPr b="1" lang="en-US" sz="2800" spc="-1" strike="noStrike">
                <a:solidFill>
                  <a:srgbClr val="000000"/>
                </a:solidFill>
                <a:latin typeface="Times New Roman"/>
              </a:rPr>
              <a:t>	</a:t>
            </a:r>
            <a:r>
              <a:rPr b="1" lang="en-US" sz="2800" spc="-1" strike="noStrike">
                <a:solidFill>
                  <a:srgbClr val="000000"/>
                </a:solidFill>
                <a:latin typeface="Times New Roman"/>
              </a:rPr>
              <a:t>aded”</a:t>
            </a:r>
            <a:r>
              <a:rPr b="1" lang="en-US" sz="2800" spc="-1" strike="noStrike">
                <a:solidFill>
                  <a:srgbClr val="000000"/>
                </a:solidFill>
                <a:latin typeface="Times New Roman"/>
              </a:rPr>
              <a:t> (too much current!) </a:t>
            </a:r>
            <a:r>
              <a:rPr b="1" lang="en-US" sz="2800" spc="-1" strike="noStrike">
                <a:solidFill>
                  <a:srgbClr val="3333cc"/>
                </a:solidFill>
                <a:latin typeface="Times New Roman"/>
              </a:rPr>
              <a:t>fuses</a:t>
            </a:r>
            <a:r>
              <a:rPr b="1" lang="en-US" sz="2800" spc="-1" strike="noStrike">
                <a:solidFill>
                  <a:srgbClr val="000000"/>
                </a:solidFill>
                <a:latin typeface="Times New Roman"/>
              </a:rPr>
              <a:t> or </a:t>
            </a:r>
            <a:r>
              <a:rPr b="1" lang="en-US" sz="2800" spc="-1" strike="noStrike">
                <a:solidFill>
                  <a:srgbClr val="3333cc"/>
                </a:solidFill>
                <a:latin typeface="Times New Roman"/>
              </a:rPr>
              <a:t>circuit breakers</a:t>
            </a:r>
            <a:r>
              <a:rPr b="1" lang="en-US" sz="2800" spc="-1" strike="noStrike">
                <a:solidFill>
                  <a:srgbClr val="000000"/>
                </a:solidFill>
                <a:latin typeface="Times New Roman"/>
              </a:rPr>
              <a:t> interrupt the flow of current.</a:t>
            </a:r>
            <a:endParaRPr b="0" lang="en-US" sz="2800" spc="-1" strike="noStrike">
              <a:solidFill>
                <a:srgbClr val="000000"/>
              </a:solidFill>
              <a:latin typeface="Times New Roman"/>
            </a:endParaRPr>
          </a:p>
        </p:txBody>
      </p:sp>
      <p:sp>
        <p:nvSpPr>
          <p:cNvPr id="162" name=""/>
          <p:cNvSpPr/>
          <p:nvPr/>
        </p:nvSpPr>
        <p:spPr>
          <a:xfrm>
            <a:off x="609480" y="868320"/>
            <a:ext cx="8534520" cy="1417680"/>
          </a:xfrm>
          <a:prstGeom prst="rect">
            <a:avLst/>
          </a:prstGeom>
          <a:noFill/>
          <a:ln w="0">
            <a:noFill/>
          </a:ln>
        </p:spPr>
        <p:style>
          <a:lnRef idx="0"/>
          <a:fillRef idx="0"/>
          <a:effectRef idx="0"/>
          <a:fontRef idx="minor"/>
        </p:style>
        <p:txBody>
          <a:bodyPr lIns="90360" rIns="90360" tIns="44280" bIns="44280" anchor="t">
            <a:noAutofit/>
          </a:bodyPr>
          <a:p>
            <a:pPr>
              <a:lnSpc>
                <a:spcPct val="99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o many devices can require more current than the wires can handle  --  overheating of wires is a fire hazard !!!</a:t>
            </a:r>
            <a:endParaRPr b="0" lang="en-US" sz="3200" spc="-1" strike="noStrike">
              <a:solidFill>
                <a:srgbClr val="000000"/>
              </a:solidFill>
              <a:latin typeface="Times New Roman"/>
            </a:endParaRPr>
          </a:p>
        </p:txBody>
      </p:sp>
      <p:grpSp>
        <p:nvGrpSpPr>
          <p:cNvPr id="163" name=""/>
          <p:cNvGrpSpPr/>
          <p:nvPr/>
        </p:nvGrpSpPr>
        <p:grpSpPr>
          <a:xfrm>
            <a:off x="762120" y="3962520"/>
            <a:ext cx="2206440" cy="2408040"/>
            <a:chOff x="762120" y="3962520"/>
            <a:chExt cx="2206440" cy="2408040"/>
          </a:xfrm>
        </p:grpSpPr>
        <p:pic>
          <p:nvPicPr>
            <p:cNvPr id="164" name="FG18_017" descr=""/>
            <p:cNvPicPr/>
            <p:nvPr/>
          </p:nvPicPr>
          <p:blipFill>
            <a:blip r:embed="rId1"/>
            <a:srcRect l="0" t="30729" r="73518" b="13172"/>
            <a:stretch/>
          </p:blipFill>
          <p:spPr>
            <a:xfrm>
              <a:off x="762120" y="3962520"/>
              <a:ext cx="2206440" cy="2408040"/>
            </a:xfrm>
            <a:prstGeom prst="rect">
              <a:avLst/>
            </a:prstGeom>
            <a:ln w="0">
              <a:noFill/>
            </a:ln>
          </p:spPr>
        </p:pic>
        <p:sp>
          <p:nvSpPr>
            <p:cNvPr id="165" name=""/>
            <p:cNvSpPr/>
            <p:nvPr/>
          </p:nvSpPr>
          <p:spPr>
            <a:xfrm>
              <a:off x="1013760" y="5873760"/>
              <a:ext cx="1060200" cy="459720"/>
            </a:xfrm>
            <a:prstGeom prst="rect">
              <a:avLst/>
            </a:prstGeom>
            <a:solidFill>
              <a:srgbClr val="ff0000"/>
            </a:solidFill>
            <a:ln w="2844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ses</a:t>
              </a:r>
              <a:endParaRPr b="0" lang="en-US" sz="2400" spc="-1" strike="noStrike">
                <a:solidFill>
                  <a:srgbClr val="000000"/>
                </a:solidFill>
                <a:latin typeface="Times New Roman"/>
              </a:endParaRPr>
            </a:p>
          </p:txBody>
        </p:sp>
      </p:grpSp>
      <p:grpSp>
        <p:nvGrpSpPr>
          <p:cNvPr id="166" name=""/>
          <p:cNvGrpSpPr/>
          <p:nvPr/>
        </p:nvGrpSpPr>
        <p:grpSpPr>
          <a:xfrm>
            <a:off x="3657600" y="3733920"/>
            <a:ext cx="5486400" cy="3123720"/>
            <a:chOff x="3657600" y="3733920"/>
            <a:chExt cx="5486400" cy="3123720"/>
          </a:xfrm>
        </p:grpSpPr>
        <p:pic>
          <p:nvPicPr>
            <p:cNvPr id="167" name="FG18_017" descr=""/>
            <p:cNvPicPr/>
            <p:nvPr/>
          </p:nvPicPr>
          <p:blipFill>
            <a:blip r:embed="rId2"/>
            <a:srcRect l="26224" t="22461" r="0" b="14060"/>
            <a:stretch/>
          </p:blipFill>
          <p:spPr>
            <a:xfrm>
              <a:off x="3657600" y="4001040"/>
              <a:ext cx="5486400" cy="2856600"/>
            </a:xfrm>
            <a:prstGeom prst="rect">
              <a:avLst/>
            </a:prstGeom>
            <a:ln w="0">
              <a:noFill/>
            </a:ln>
          </p:spPr>
        </p:pic>
        <p:pic>
          <p:nvPicPr>
            <p:cNvPr id="168" name="FG18_017" descr=""/>
            <p:cNvPicPr/>
            <p:nvPr/>
          </p:nvPicPr>
          <p:blipFill>
            <a:blip r:embed="rId3"/>
            <a:srcRect l="61115" t="75092" r="22274" b="14060"/>
            <a:stretch/>
          </p:blipFill>
          <p:spPr>
            <a:xfrm>
              <a:off x="4494960" y="6358680"/>
              <a:ext cx="1821960" cy="343440"/>
            </a:xfrm>
            <a:prstGeom prst="rect">
              <a:avLst/>
            </a:prstGeom>
            <a:ln w="0">
              <a:noFill/>
            </a:ln>
          </p:spPr>
        </p:pic>
        <p:pic>
          <p:nvPicPr>
            <p:cNvPr id="169" name="FG18_017" descr=""/>
            <p:cNvPicPr/>
            <p:nvPr/>
          </p:nvPicPr>
          <p:blipFill>
            <a:blip r:embed="rId4"/>
            <a:srcRect l="61115" t="75092" r="22274" b="14060"/>
            <a:stretch/>
          </p:blipFill>
          <p:spPr>
            <a:xfrm>
              <a:off x="7299000" y="6363000"/>
              <a:ext cx="1821600" cy="343080"/>
            </a:xfrm>
            <a:prstGeom prst="rect">
              <a:avLst/>
            </a:prstGeom>
            <a:ln w="0">
              <a:noFill/>
            </a:ln>
          </p:spPr>
        </p:pic>
        <p:sp>
          <p:nvSpPr>
            <p:cNvPr id="170" name=""/>
            <p:cNvSpPr/>
            <p:nvPr/>
          </p:nvSpPr>
          <p:spPr>
            <a:xfrm>
              <a:off x="4731480" y="6391080"/>
              <a:ext cx="183960" cy="457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755480" y="6383160"/>
              <a:ext cx="183960" cy="456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5300280" y="3733920"/>
              <a:ext cx="2366280" cy="459720"/>
            </a:xfrm>
            <a:prstGeom prst="rect">
              <a:avLst/>
            </a:prstGeom>
            <a:solidFill>
              <a:srgbClr val="ff0000"/>
            </a:solidFill>
            <a:ln w="3816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 Break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1734FCB-AFE2-466E-ADDA-2235423F3B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imple Circuit</a:t>
            </a:r>
            <a:endParaRPr b="0" lang="en-US" sz="4400" spc="-1" strike="noStrike">
              <a:solidFill>
                <a:srgbClr val="000000"/>
              </a:solidFill>
              <a:latin typeface="Times New Roman"/>
            </a:endParaRPr>
          </a:p>
        </p:txBody>
      </p:sp>
      <p:sp>
        <p:nvSpPr>
          <p:cNvPr id="174" name=""/>
          <p:cNvSpPr/>
          <p:nvPr/>
        </p:nvSpPr>
        <p:spPr>
          <a:xfrm>
            <a:off x="5334120" y="2438280"/>
            <a:ext cx="99036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252040" y="3008160"/>
            <a:ext cx="2905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ircuit diagram</a:t>
            </a:r>
            <a:endParaRPr b="0" lang="en-US" sz="2800" spc="-1" strike="noStrike">
              <a:solidFill>
                <a:srgbClr val="000000"/>
              </a:solidFill>
              <a:latin typeface="Times New Roman"/>
            </a:endParaRPr>
          </a:p>
        </p:txBody>
      </p:sp>
      <p:sp>
        <p:nvSpPr>
          <p:cNvPr id="176" name=""/>
          <p:cNvSpPr/>
          <p:nvPr/>
        </p:nvSpPr>
        <p:spPr>
          <a:xfrm flipH="1">
            <a:off x="6171840" y="3657600"/>
            <a:ext cx="762120" cy="60948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1706400" y="2141640"/>
            <a:ext cx="800280" cy="822240"/>
            <a:chOff x="1706400" y="2141640"/>
            <a:chExt cx="800280" cy="822240"/>
          </a:xfrm>
        </p:grpSpPr>
        <p:sp>
          <p:nvSpPr>
            <p:cNvPr id="178" name=""/>
            <p:cNvSpPr/>
            <p:nvPr/>
          </p:nvSpPr>
          <p:spPr>
            <a:xfrm>
              <a:off x="1706400" y="2141640"/>
              <a:ext cx="800280" cy="822240"/>
            </a:xfrm>
            <a:prstGeom prst="ellipse">
              <a:avLst/>
            </a:prstGeom>
            <a:solidFill>
              <a:srgbClr val="c0c0c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05080" y="2219400"/>
              <a:ext cx="120600" cy="108000"/>
            </a:xfrm>
            <a:custGeom>
              <a:avLst/>
              <a:gdLst/>
              <a:ahLst/>
              <a:rect l="l" t="t" r="r" b="b"/>
              <a:pathLst>
                <a:path w="227" h="206">
                  <a:moveTo>
                    <a:pt x="60" y="0"/>
                  </a:moveTo>
                  <a:lnTo>
                    <a:pt x="0" y="38"/>
                  </a:lnTo>
                  <a:lnTo>
                    <a:pt x="162" y="206"/>
                  </a:lnTo>
                  <a:lnTo>
                    <a:pt x="227" y="169"/>
                  </a:lnTo>
                  <a:lnTo>
                    <a:pt x="220" y="157"/>
                  </a:lnTo>
                  <a:lnTo>
                    <a:pt x="211" y="146"/>
                  </a:lnTo>
                  <a:lnTo>
                    <a:pt x="202" y="136"/>
                  </a:lnTo>
                  <a:lnTo>
                    <a:pt x="195" y="126"/>
                  </a:lnTo>
                  <a:lnTo>
                    <a:pt x="188" y="119"/>
                  </a:lnTo>
                  <a:lnTo>
                    <a:pt x="183" y="112"/>
                  </a:lnTo>
                  <a:lnTo>
                    <a:pt x="176" y="104"/>
                  </a:lnTo>
                  <a:lnTo>
                    <a:pt x="168" y="97"/>
                  </a:lnTo>
                  <a:lnTo>
                    <a:pt x="159" y="87"/>
                  </a:lnTo>
                  <a:lnTo>
                    <a:pt x="151" y="78"/>
                  </a:lnTo>
                  <a:lnTo>
                    <a:pt x="141" y="69"/>
                  </a:lnTo>
                  <a:lnTo>
                    <a:pt x="130" y="59"/>
                  </a:lnTo>
                  <a:lnTo>
                    <a:pt x="122" y="51"/>
                  </a:lnTo>
                  <a:lnTo>
                    <a:pt x="113" y="43"/>
                  </a:lnTo>
                  <a:lnTo>
                    <a:pt x="102" y="33"/>
                  </a:lnTo>
                  <a:lnTo>
                    <a:pt x="92" y="25"/>
                  </a:lnTo>
                  <a:lnTo>
                    <a:pt x="82" y="17"/>
                  </a:lnTo>
                  <a:lnTo>
                    <a:pt x="71" y="8"/>
                  </a:lnTo>
                  <a:lnTo>
                    <a:pt x="6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584000" y="1365120"/>
            <a:ext cx="1615680" cy="1265760"/>
            <a:chOff x="1584000" y="1365120"/>
            <a:chExt cx="1615680" cy="1265760"/>
          </a:xfrm>
        </p:grpSpPr>
        <p:sp>
          <p:nvSpPr>
            <p:cNvPr id="181" name=""/>
            <p:cNvSpPr/>
            <p:nvPr/>
          </p:nvSpPr>
          <p:spPr>
            <a:xfrm>
              <a:off x="1584000" y="205092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sp>
          <p:nvSpPr>
            <p:cNvPr id="182" name=""/>
            <p:cNvSpPr/>
            <p:nvPr/>
          </p:nvSpPr>
          <p:spPr>
            <a:xfrm>
              <a:off x="2878920" y="136512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grpSp>
      <p:grpSp>
        <p:nvGrpSpPr>
          <p:cNvPr id="183" name=""/>
          <p:cNvGrpSpPr/>
          <p:nvPr/>
        </p:nvGrpSpPr>
        <p:grpSpPr>
          <a:xfrm>
            <a:off x="1674720" y="1747800"/>
            <a:ext cx="1449360" cy="1219320"/>
            <a:chOff x="1674720" y="1747800"/>
            <a:chExt cx="1449360" cy="1219320"/>
          </a:xfrm>
        </p:grpSpPr>
        <p:grpSp>
          <p:nvGrpSpPr>
            <p:cNvPr id="184" name=""/>
            <p:cNvGrpSpPr/>
            <p:nvPr/>
          </p:nvGrpSpPr>
          <p:grpSpPr>
            <a:xfrm>
              <a:off x="1800360" y="1747800"/>
              <a:ext cx="1323720" cy="1185840"/>
              <a:chOff x="1800360" y="1747800"/>
              <a:chExt cx="1323720" cy="1185840"/>
            </a:xfrm>
          </p:grpSpPr>
          <p:grpSp>
            <p:nvGrpSpPr>
              <p:cNvPr id="185" name=""/>
              <p:cNvGrpSpPr/>
              <p:nvPr/>
            </p:nvGrpSpPr>
            <p:grpSpPr>
              <a:xfrm>
                <a:off x="1800360" y="1747800"/>
                <a:ext cx="1323720" cy="1185840"/>
                <a:chOff x="1800360" y="1747800"/>
                <a:chExt cx="1323720" cy="1185840"/>
              </a:xfrm>
            </p:grpSpPr>
            <p:sp>
              <p:nvSpPr>
                <p:cNvPr id="186" name=""/>
                <p:cNvSpPr/>
                <p:nvPr/>
              </p:nvSpPr>
              <p:spPr>
                <a:xfrm>
                  <a:off x="1800360" y="1747800"/>
                  <a:ext cx="1323720" cy="1185840"/>
                </a:xfrm>
                <a:custGeom>
                  <a:avLst/>
                  <a:gdLst/>
                  <a:ahLst/>
                  <a:rect l="l" t="t" r="r" b="b"/>
                  <a:pathLst>
                    <a:path w="2503" h="2241">
                      <a:moveTo>
                        <a:pt x="0" y="998"/>
                      </a:moveTo>
                      <a:lnTo>
                        <a:pt x="844" y="2241"/>
                      </a:lnTo>
                      <a:lnTo>
                        <a:pt x="2233" y="1246"/>
                      </a:lnTo>
                      <a:lnTo>
                        <a:pt x="2252" y="1232"/>
                      </a:lnTo>
                      <a:lnTo>
                        <a:pt x="2264" y="1220"/>
                      </a:lnTo>
                      <a:lnTo>
                        <a:pt x="2277" y="1209"/>
                      </a:lnTo>
                      <a:lnTo>
                        <a:pt x="2293" y="1194"/>
                      </a:lnTo>
                      <a:lnTo>
                        <a:pt x="2310" y="1178"/>
                      </a:lnTo>
                      <a:lnTo>
                        <a:pt x="2325" y="1160"/>
                      </a:lnTo>
                      <a:lnTo>
                        <a:pt x="2341" y="1141"/>
                      </a:lnTo>
                      <a:lnTo>
                        <a:pt x="2358" y="1122"/>
                      </a:lnTo>
                      <a:lnTo>
                        <a:pt x="2370" y="1103"/>
                      </a:lnTo>
                      <a:lnTo>
                        <a:pt x="2383" y="1088"/>
                      </a:lnTo>
                      <a:lnTo>
                        <a:pt x="2397" y="1067"/>
                      </a:lnTo>
                      <a:lnTo>
                        <a:pt x="2408" y="1048"/>
                      </a:lnTo>
                      <a:lnTo>
                        <a:pt x="2417" y="1033"/>
                      </a:lnTo>
                      <a:lnTo>
                        <a:pt x="2429" y="1009"/>
                      </a:lnTo>
                      <a:lnTo>
                        <a:pt x="2443" y="978"/>
                      </a:lnTo>
                      <a:lnTo>
                        <a:pt x="2457" y="949"/>
                      </a:lnTo>
                      <a:lnTo>
                        <a:pt x="2466" y="922"/>
                      </a:lnTo>
                      <a:lnTo>
                        <a:pt x="2475" y="892"/>
                      </a:lnTo>
                      <a:lnTo>
                        <a:pt x="2483" y="864"/>
                      </a:lnTo>
                      <a:lnTo>
                        <a:pt x="2491" y="836"/>
                      </a:lnTo>
                      <a:lnTo>
                        <a:pt x="2494" y="818"/>
                      </a:lnTo>
                      <a:lnTo>
                        <a:pt x="2498" y="786"/>
                      </a:lnTo>
                      <a:lnTo>
                        <a:pt x="2501" y="759"/>
                      </a:lnTo>
                      <a:lnTo>
                        <a:pt x="2503" y="731"/>
                      </a:lnTo>
                      <a:lnTo>
                        <a:pt x="2503" y="703"/>
                      </a:lnTo>
                      <a:lnTo>
                        <a:pt x="2503" y="674"/>
                      </a:lnTo>
                      <a:lnTo>
                        <a:pt x="2502" y="642"/>
                      </a:lnTo>
                      <a:lnTo>
                        <a:pt x="2498" y="610"/>
                      </a:lnTo>
                      <a:lnTo>
                        <a:pt x="2496" y="595"/>
                      </a:lnTo>
                      <a:lnTo>
                        <a:pt x="2494" y="579"/>
                      </a:lnTo>
                      <a:lnTo>
                        <a:pt x="2489" y="554"/>
                      </a:lnTo>
                      <a:lnTo>
                        <a:pt x="2481" y="525"/>
                      </a:lnTo>
                      <a:lnTo>
                        <a:pt x="2478" y="510"/>
                      </a:lnTo>
                      <a:lnTo>
                        <a:pt x="2473" y="492"/>
                      </a:lnTo>
                      <a:lnTo>
                        <a:pt x="2468" y="472"/>
                      </a:lnTo>
                      <a:lnTo>
                        <a:pt x="2458" y="445"/>
                      </a:lnTo>
                      <a:lnTo>
                        <a:pt x="2446" y="419"/>
                      </a:lnTo>
                      <a:lnTo>
                        <a:pt x="2435" y="394"/>
                      </a:lnTo>
                      <a:lnTo>
                        <a:pt x="2421" y="366"/>
                      </a:lnTo>
                      <a:lnTo>
                        <a:pt x="2407" y="342"/>
                      </a:lnTo>
                      <a:lnTo>
                        <a:pt x="2393" y="318"/>
                      </a:lnTo>
                      <a:lnTo>
                        <a:pt x="2382" y="302"/>
                      </a:lnTo>
                      <a:lnTo>
                        <a:pt x="2370" y="286"/>
                      </a:lnTo>
                      <a:lnTo>
                        <a:pt x="2356" y="267"/>
                      </a:lnTo>
                      <a:lnTo>
                        <a:pt x="2340" y="246"/>
                      </a:lnTo>
                      <a:lnTo>
                        <a:pt x="2322" y="228"/>
                      </a:lnTo>
                      <a:lnTo>
                        <a:pt x="2306" y="210"/>
                      </a:lnTo>
                      <a:lnTo>
                        <a:pt x="2290" y="193"/>
                      </a:lnTo>
                      <a:lnTo>
                        <a:pt x="2273" y="176"/>
                      </a:lnTo>
                      <a:lnTo>
                        <a:pt x="2254" y="162"/>
                      </a:lnTo>
                      <a:lnTo>
                        <a:pt x="2234" y="145"/>
                      </a:lnTo>
                      <a:lnTo>
                        <a:pt x="2212" y="129"/>
                      </a:lnTo>
                      <a:lnTo>
                        <a:pt x="2192" y="115"/>
                      </a:lnTo>
                      <a:lnTo>
                        <a:pt x="2172" y="103"/>
                      </a:lnTo>
                      <a:lnTo>
                        <a:pt x="2152" y="92"/>
                      </a:lnTo>
                      <a:lnTo>
                        <a:pt x="2136" y="82"/>
                      </a:lnTo>
                      <a:lnTo>
                        <a:pt x="2120" y="73"/>
                      </a:lnTo>
                      <a:lnTo>
                        <a:pt x="2104" y="66"/>
                      </a:lnTo>
                      <a:lnTo>
                        <a:pt x="2084" y="58"/>
                      </a:lnTo>
                      <a:lnTo>
                        <a:pt x="2066" y="49"/>
                      </a:lnTo>
                      <a:lnTo>
                        <a:pt x="2049" y="43"/>
                      </a:lnTo>
                      <a:lnTo>
                        <a:pt x="2030" y="37"/>
                      </a:lnTo>
                      <a:lnTo>
                        <a:pt x="2011" y="30"/>
                      </a:lnTo>
                      <a:lnTo>
                        <a:pt x="1994" y="26"/>
                      </a:lnTo>
                      <a:lnTo>
                        <a:pt x="1972" y="20"/>
                      </a:lnTo>
                      <a:lnTo>
                        <a:pt x="1953" y="15"/>
                      </a:lnTo>
                      <a:lnTo>
                        <a:pt x="1932" y="12"/>
                      </a:lnTo>
                      <a:lnTo>
                        <a:pt x="1911" y="8"/>
                      </a:lnTo>
                      <a:lnTo>
                        <a:pt x="1890" y="4"/>
                      </a:lnTo>
                      <a:lnTo>
                        <a:pt x="1864" y="3"/>
                      </a:lnTo>
                      <a:lnTo>
                        <a:pt x="1848" y="1"/>
                      </a:lnTo>
                      <a:lnTo>
                        <a:pt x="1827" y="1"/>
                      </a:lnTo>
                      <a:lnTo>
                        <a:pt x="1807" y="0"/>
                      </a:lnTo>
                      <a:lnTo>
                        <a:pt x="1785" y="1"/>
                      </a:lnTo>
                      <a:lnTo>
                        <a:pt x="1762" y="3"/>
                      </a:lnTo>
                      <a:lnTo>
                        <a:pt x="1739" y="4"/>
                      </a:lnTo>
                      <a:lnTo>
                        <a:pt x="1717" y="6"/>
                      </a:lnTo>
                      <a:lnTo>
                        <a:pt x="1696" y="9"/>
                      </a:lnTo>
                      <a:lnTo>
                        <a:pt x="1672" y="14"/>
                      </a:lnTo>
                      <a:lnTo>
                        <a:pt x="1653" y="19"/>
                      </a:lnTo>
                      <a:lnTo>
                        <a:pt x="1635" y="24"/>
                      </a:lnTo>
                      <a:lnTo>
                        <a:pt x="1612" y="30"/>
                      </a:lnTo>
                      <a:lnTo>
                        <a:pt x="1589" y="37"/>
                      </a:lnTo>
                      <a:lnTo>
                        <a:pt x="1567" y="45"/>
                      </a:lnTo>
                      <a:lnTo>
                        <a:pt x="1544" y="54"/>
                      </a:lnTo>
                      <a:lnTo>
                        <a:pt x="1519" y="64"/>
                      </a:lnTo>
                      <a:lnTo>
                        <a:pt x="1496" y="75"/>
                      </a:lnTo>
                      <a:lnTo>
                        <a:pt x="1470" y="90"/>
                      </a:lnTo>
                      <a:lnTo>
                        <a:pt x="0" y="998"/>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800360" y="2019240"/>
                  <a:ext cx="900000" cy="914400"/>
                </a:xfrm>
                <a:custGeom>
                  <a:avLst/>
                  <a:gdLst/>
                  <a:ahLst/>
                  <a:rect l="l" t="t" r="r" b="b"/>
                  <a:pathLst>
                    <a:path w="1703" h="1726">
                      <a:moveTo>
                        <a:pt x="0" y="472"/>
                      </a:moveTo>
                      <a:lnTo>
                        <a:pt x="844" y="1726"/>
                      </a:lnTo>
                      <a:lnTo>
                        <a:pt x="1375" y="1344"/>
                      </a:lnTo>
                      <a:lnTo>
                        <a:pt x="1402" y="1321"/>
                      </a:lnTo>
                      <a:lnTo>
                        <a:pt x="1426" y="1294"/>
                      </a:lnTo>
                      <a:lnTo>
                        <a:pt x="1445" y="1278"/>
                      </a:lnTo>
                      <a:lnTo>
                        <a:pt x="1458" y="1268"/>
                      </a:lnTo>
                      <a:lnTo>
                        <a:pt x="1471" y="1255"/>
                      </a:lnTo>
                      <a:lnTo>
                        <a:pt x="1488" y="1240"/>
                      </a:lnTo>
                      <a:lnTo>
                        <a:pt x="1504" y="1223"/>
                      </a:lnTo>
                      <a:lnTo>
                        <a:pt x="1520" y="1205"/>
                      </a:lnTo>
                      <a:lnTo>
                        <a:pt x="1537" y="1185"/>
                      </a:lnTo>
                      <a:lnTo>
                        <a:pt x="1553" y="1165"/>
                      </a:lnTo>
                      <a:lnTo>
                        <a:pt x="1567" y="1146"/>
                      </a:lnTo>
                      <a:lnTo>
                        <a:pt x="1579" y="1129"/>
                      </a:lnTo>
                      <a:lnTo>
                        <a:pt x="1593" y="1107"/>
                      </a:lnTo>
                      <a:lnTo>
                        <a:pt x="1606" y="1088"/>
                      </a:lnTo>
                      <a:lnTo>
                        <a:pt x="1614" y="1072"/>
                      </a:lnTo>
                      <a:lnTo>
                        <a:pt x="1626" y="1047"/>
                      </a:lnTo>
                      <a:lnTo>
                        <a:pt x="1641" y="1016"/>
                      </a:lnTo>
                      <a:lnTo>
                        <a:pt x="1654" y="984"/>
                      </a:lnTo>
                      <a:lnTo>
                        <a:pt x="1663" y="957"/>
                      </a:lnTo>
                      <a:lnTo>
                        <a:pt x="1674" y="926"/>
                      </a:lnTo>
                      <a:lnTo>
                        <a:pt x="1683" y="897"/>
                      </a:lnTo>
                      <a:lnTo>
                        <a:pt x="1689" y="868"/>
                      </a:lnTo>
                      <a:lnTo>
                        <a:pt x="1692" y="849"/>
                      </a:lnTo>
                      <a:lnTo>
                        <a:pt x="1696" y="816"/>
                      </a:lnTo>
                      <a:lnTo>
                        <a:pt x="1699" y="788"/>
                      </a:lnTo>
                      <a:lnTo>
                        <a:pt x="1703" y="759"/>
                      </a:lnTo>
                      <a:lnTo>
                        <a:pt x="1703" y="730"/>
                      </a:lnTo>
                      <a:lnTo>
                        <a:pt x="1703" y="699"/>
                      </a:lnTo>
                      <a:lnTo>
                        <a:pt x="1700" y="665"/>
                      </a:lnTo>
                      <a:lnTo>
                        <a:pt x="1696" y="632"/>
                      </a:lnTo>
                      <a:lnTo>
                        <a:pt x="1694" y="618"/>
                      </a:lnTo>
                      <a:lnTo>
                        <a:pt x="1693" y="600"/>
                      </a:lnTo>
                      <a:lnTo>
                        <a:pt x="1687" y="575"/>
                      </a:lnTo>
                      <a:lnTo>
                        <a:pt x="1680" y="546"/>
                      </a:lnTo>
                      <a:lnTo>
                        <a:pt x="1677" y="529"/>
                      </a:lnTo>
                      <a:lnTo>
                        <a:pt x="1672" y="511"/>
                      </a:lnTo>
                      <a:lnTo>
                        <a:pt x="1666" y="490"/>
                      </a:lnTo>
                      <a:lnTo>
                        <a:pt x="1655" y="461"/>
                      </a:lnTo>
                      <a:lnTo>
                        <a:pt x="1645" y="436"/>
                      </a:lnTo>
                      <a:lnTo>
                        <a:pt x="1633" y="410"/>
                      </a:lnTo>
                      <a:lnTo>
                        <a:pt x="1618" y="379"/>
                      </a:lnTo>
                      <a:lnTo>
                        <a:pt x="1605" y="354"/>
                      </a:lnTo>
                      <a:lnTo>
                        <a:pt x="1589" y="330"/>
                      </a:lnTo>
                      <a:lnTo>
                        <a:pt x="1578" y="313"/>
                      </a:lnTo>
                      <a:lnTo>
                        <a:pt x="1567" y="297"/>
                      </a:lnTo>
                      <a:lnTo>
                        <a:pt x="1552" y="277"/>
                      </a:lnTo>
                      <a:lnTo>
                        <a:pt x="1536" y="256"/>
                      </a:lnTo>
                      <a:lnTo>
                        <a:pt x="1517" y="236"/>
                      </a:lnTo>
                      <a:lnTo>
                        <a:pt x="1501" y="218"/>
                      </a:lnTo>
                      <a:lnTo>
                        <a:pt x="1482" y="200"/>
                      </a:lnTo>
                      <a:lnTo>
                        <a:pt x="1466" y="184"/>
                      </a:lnTo>
                      <a:lnTo>
                        <a:pt x="1447" y="167"/>
                      </a:lnTo>
                      <a:lnTo>
                        <a:pt x="1428" y="150"/>
                      </a:lnTo>
                      <a:lnTo>
                        <a:pt x="1405" y="133"/>
                      </a:lnTo>
                      <a:lnTo>
                        <a:pt x="1384" y="119"/>
                      </a:lnTo>
                      <a:lnTo>
                        <a:pt x="1363" y="106"/>
                      </a:lnTo>
                      <a:lnTo>
                        <a:pt x="1343" y="94"/>
                      </a:lnTo>
                      <a:lnTo>
                        <a:pt x="1327" y="85"/>
                      </a:lnTo>
                      <a:lnTo>
                        <a:pt x="1311" y="76"/>
                      </a:lnTo>
                      <a:lnTo>
                        <a:pt x="1293" y="68"/>
                      </a:lnTo>
                      <a:lnTo>
                        <a:pt x="1274" y="59"/>
                      </a:lnTo>
                      <a:lnTo>
                        <a:pt x="1255" y="51"/>
                      </a:lnTo>
                      <a:lnTo>
                        <a:pt x="1236" y="44"/>
                      </a:lnTo>
                      <a:lnTo>
                        <a:pt x="1218" y="38"/>
                      </a:lnTo>
                      <a:lnTo>
                        <a:pt x="1198" y="30"/>
                      </a:lnTo>
                      <a:lnTo>
                        <a:pt x="1182" y="26"/>
                      </a:lnTo>
                      <a:lnTo>
                        <a:pt x="1158" y="19"/>
                      </a:lnTo>
                      <a:lnTo>
                        <a:pt x="1139" y="16"/>
                      </a:lnTo>
                      <a:lnTo>
                        <a:pt x="1117" y="12"/>
                      </a:lnTo>
                      <a:lnTo>
                        <a:pt x="1097" y="8"/>
                      </a:lnTo>
                      <a:lnTo>
                        <a:pt x="1075" y="5"/>
                      </a:lnTo>
                      <a:lnTo>
                        <a:pt x="1047" y="3"/>
                      </a:lnTo>
                      <a:lnTo>
                        <a:pt x="1032" y="2"/>
                      </a:lnTo>
                      <a:lnTo>
                        <a:pt x="1010" y="1"/>
                      </a:lnTo>
                      <a:lnTo>
                        <a:pt x="991" y="0"/>
                      </a:lnTo>
                      <a:lnTo>
                        <a:pt x="967" y="1"/>
                      </a:lnTo>
                      <a:lnTo>
                        <a:pt x="944" y="3"/>
                      </a:lnTo>
                      <a:lnTo>
                        <a:pt x="919" y="5"/>
                      </a:lnTo>
                      <a:lnTo>
                        <a:pt x="897" y="7"/>
                      </a:lnTo>
                      <a:lnTo>
                        <a:pt x="876" y="9"/>
                      </a:lnTo>
                      <a:lnTo>
                        <a:pt x="852" y="14"/>
                      </a:lnTo>
                      <a:lnTo>
                        <a:pt x="832" y="18"/>
                      </a:lnTo>
                      <a:lnTo>
                        <a:pt x="813" y="24"/>
                      </a:lnTo>
                      <a:lnTo>
                        <a:pt x="790" y="30"/>
                      </a:lnTo>
                      <a:lnTo>
                        <a:pt x="767" y="38"/>
                      </a:lnTo>
                      <a:lnTo>
                        <a:pt x="744" y="46"/>
                      </a:lnTo>
                      <a:lnTo>
                        <a:pt x="720" y="56"/>
                      </a:lnTo>
                      <a:lnTo>
                        <a:pt x="695" y="66"/>
                      </a:lnTo>
                      <a:lnTo>
                        <a:pt x="671" y="76"/>
                      </a:lnTo>
                      <a:lnTo>
                        <a:pt x="646" y="87"/>
                      </a:lnTo>
                      <a:lnTo>
                        <a:pt x="617" y="103"/>
                      </a:lnTo>
                      <a:lnTo>
                        <a:pt x="0" y="472"/>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292480" y="1809720"/>
                <a:ext cx="742680" cy="527040"/>
                <a:chOff x="2292480" y="1809720"/>
                <a:chExt cx="742680" cy="527040"/>
              </a:xfrm>
            </p:grpSpPr>
            <p:sp>
              <p:nvSpPr>
                <p:cNvPr id="189" name=""/>
                <p:cNvSpPr/>
                <p:nvPr/>
              </p:nvSpPr>
              <p:spPr>
                <a:xfrm>
                  <a:off x="2292480" y="1809720"/>
                  <a:ext cx="742680" cy="527040"/>
                </a:xfrm>
                <a:custGeom>
                  <a:avLst/>
                  <a:gdLst/>
                  <a:ahLst/>
                  <a:rect l="l" t="t" r="r" b="b"/>
                  <a:pathLst>
                    <a:path w="1406" h="995">
                      <a:moveTo>
                        <a:pt x="0" y="823"/>
                      </a:moveTo>
                      <a:lnTo>
                        <a:pt x="1265" y="0"/>
                      </a:lnTo>
                      <a:lnTo>
                        <a:pt x="1276" y="8"/>
                      </a:lnTo>
                      <a:lnTo>
                        <a:pt x="1286" y="15"/>
                      </a:lnTo>
                      <a:lnTo>
                        <a:pt x="1296" y="23"/>
                      </a:lnTo>
                      <a:lnTo>
                        <a:pt x="1309" y="32"/>
                      </a:lnTo>
                      <a:lnTo>
                        <a:pt x="1321" y="43"/>
                      </a:lnTo>
                      <a:lnTo>
                        <a:pt x="1333" y="53"/>
                      </a:lnTo>
                      <a:lnTo>
                        <a:pt x="1350" y="66"/>
                      </a:lnTo>
                      <a:lnTo>
                        <a:pt x="1361" y="78"/>
                      </a:lnTo>
                      <a:lnTo>
                        <a:pt x="1374" y="91"/>
                      </a:lnTo>
                      <a:lnTo>
                        <a:pt x="1383" y="100"/>
                      </a:lnTo>
                      <a:lnTo>
                        <a:pt x="1392" y="111"/>
                      </a:lnTo>
                      <a:lnTo>
                        <a:pt x="1406" y="125"/>
                      </a:lnTo>
                      <a:lnTo>
                        <a:pt x="158" y="995"/>
                      </a:lnTo>
                      <a:lnTo>
                        <a:pt x="0" y="823"/>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292480" y="2085840"/>
                  <a:ext cx="328320" cy="250920"/>
                </a:xfrm>
                <a:custGeom>
                  <a:avLst/>
                  <a:gdLst/>
                  <a:ahLst/>
                  <a:rect l="l" t="t" r="r" b="b"/>
                  <a:pathLst>
                    <a:path w="622" h="473">
                      <a:moveTo>
                        <a:pt x="0" y="301"/>
                      </a:moveTo>
                      <a:lnTo>
                        <a:pt x="464" y="0"/>
                      </a:lnTo>
                      <a:lnTo>
                        <a:pt x="479" y="11"/>
                      </a:lnTo>
                      <a:lnTo>
                        <a:pt x="496" y="24"/>
                      </a:lnTo>
                      <a:lnTo>
                        <a:pt x="515" y="41"/>
                      </a:lnTo>
                      <a:lnTo>
                        <a:pt x="530" y="53"/>
                      </a:lnTo>
                      <a:lnTo>
                        <a:pt x="543" y="65"/>
                      </a:lnTo>
                      <a:lnTo>
                        <a:pt x="556" y="79"/>
                      </a:lnTo>
                      <a:lnTo>
                        <a:pt x="569" y="90"/>
                      </a:lnTo>
                      <a:lnTo>
                        <a:pt x="583" y="107"/>
                      </a:lnTo>
                      <a:lnTo>
                        <a:pt x="595" y="119"/>
                      </a:lnTo>
                      <a:lnTo>
                        <a:pt x="608" y="133"/>
                      </a:lnTo>
                      <a:lnTo>
                        <a:pt x="622" y="152"/>
                      </a:lnTo>
                      <a:lnTo>
                        <a:pt x="158" y="473"/>
                      </a:lnTo>
                      <a:lnTo>
                        <a:pt x="0" y="301"/>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1" name=""/>
            <p:cNvGrpSpPr/>
            <p:nvPr/>
          </p:nvGrpSpPr>
          <p:grpSpPr>
            <a:xfrm>
              <a:off x="1674720" y="2163600"/>
              <a:ext cx="801720" cy="803520"/>
              <a:chOff x="1674720" y="2163600"/>
              <a:chExt cx="801720" cy="803520"/>
            </a:xfrm>
          </p:grpSpPr>
          <p:grpSp>
            <p:nvGrpSpPr>
              <p:cNvPr id="192" name=""/>
              <p:cNvGrpSpPr/>
              <p:nvPr/>
            </p:nvGrpSpPr>
            <p:grpSpPr>
              <a:xfrm>
                <a:off x="1674720" y="2163600"/>
                <a:ext cx="801720" cy="803520"/>
                <a:chOff x="1674720" y="2163600"/>
                <a:chExt cx="801720" cy="803520"/>
              </a:xfrm>
            </p:grpSpPr>
            <p:grpSp>
              <p:nvGrpSpPr>
                <p:cNvPr id="193" name=""/>
                <p:cNvGrpSpPr/>
                <p:nvPr/>
              </p:nvGrpSpPr>
              <p:grpSpPr>
                <a:xfrm>
                  <a:off x="1676520" y="2165400"/>
                  <a:ext cx="799920" cy="799920"/>
                  <a:chOff x="1676520" y="2165400"/>
                  <a:chExt cx="799920" cy="799920"/>
                </a:xfrm>
              </p:grpSpPr>
              <p:sp>
                <p:nvSpPr>
                  <p:cNvPr id="194" name=""/>
                  <p:cNvSpPr/>
                  <p:nvPr/>
                </p:nvSpPr>
                <p:spPr>
                  <a:xfrm>
                    <a:off x="1676520" y="2165400"/>
                    <a:ext cx="799920" cy="799920"/>
                  </a:xfrm>
                  <a:prstGeom prst="ellipse">
                    <a:avLst/>
                  </a:prstGeom>
                  <a:solidFill>
                    <a:srgbClr val="a0a0a0"/>
                  </a:solid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724040" y="2212920"/>
                    <a:ext cx="704880" cy="704880"/>
                  </a:xfrm>
                  <a:prstGeom prst="ellipse">
                    <a:avLst/>
                  </a:prstGeom>
                  <a:solidFill>
                    <a:srgbClr val="80808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884240" y="2373480"/>
                    <a:ext cx="384120" cy="384120"/>
                  </a:xfrm>
                  <a:prstGeom prst="ellipse">
                    <a:avLst/>
                  </a:pr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947960" y="2436840"/>
                    <a:ext cx="257040" cy="257040"/>
                  </a:xfrm>
                  <a:prstGeom prst="ellipse">
                    <a:avLst/>
                  </a:prstGeom>
                  <a:solidFill>
                    <a:srgbClr val="80808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1674720" y="2163600"/>
                  <a:ext cx="800280" cy="803520"/>
                  <a:chOff x="1674720" y="2163600"/>
                  <a:chExt cx="800280" cy="803520"/>
                </a:xfrm>
              </p:grpSpPr>
              <p:sp>
                <p:nvSpPr>
                  <p:cNvPr id="199" name=""/>
                  <p:cNvSpPr/>
                  <p:nvPr/>
                </p:nvSpPr>
                <p:spPr>
                  <a:xfrm>
                    <a:off x="1946160" y="2435400"/>
                    <a:ext cx="257400" cy="25704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1674720" y="2163600"/>
                    <a:ext cx="800280" cy="803520"/>
                    <a:chOff x="1674720" y="2163600"/>
                    <a:chExt cx="800280" cy="803520"/>
                  </a:xfrm>
                </p:grpSpPr>
                <p:sp>
                  <p:nvSpPr>
                    <p:cNvPr id="201" name=""/>
                    <p:cNvSpPr/>
                    <p:nvPr/>
                  </p:nvSpPr>
                  <p:spPr>
                    <a:xfrm>
                      <a:off x="1882800" y="2371680"/>
                      <a:ext cx="385560" cy="38412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1674720" y="2163600"/>
                      <a:ext cx="800280" cy="803520"/>
                      <a:chOff x="1674720" y="2163600"/>
                      <a:chExt cx="800280" cy="803520"/>
                    </a:xfrm>
                  </p:grpSpPr>
                  <p:sp>
                    <p:nvSpPr>
                      <p:cNvPr id="203" name=""/>
                      <p:cNvSpPr/>
                      <p:nvPr/>
                    </p:nvSpPr>
                    <p:spPr>
                      <a:xfrm>
                        <a:off x="1724040" y="2211480"/>
                        <a:ext cx="703080" cy="70488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1674720" y="2163600"/>
                        <a:ext cx="800280" cy="803520"/>
                        <a:chOff x="1674720" y="2163600"/>
                        <a:chExt cx="800280" cy="803520"/>
                      </a:xfrm>
                    </p:grpSpPr>
                    <p:grpSp>
                      <p:nvGrpSpPr>
                        <p:cNvPr id="205" name=""/>
                        <p:cNvGrpSpPr/>
                        <p:nvPr/>
                      </p:nvGrpSpPr>
                      <p:grpSpPr>
                        <a:xfrm>
                          <a:off x="1674720" y="2166840"/>
                          <a:ext cx="800280" cy="800280"/>
                          <a:chOff x="1674720" y="2166840"/>
                          <a:chExt cx="800280" cy="800280"/>
                        </a:xfrm>
                      </p:grpSpPr>
                      <p:sp>
                        <p:nvSpPr>
                          <p:cNvPr id="206" name=""/>
                          <p:cNvSpPr/>
                          <p:nvPr/>
                        </p:nvSpPr>
                        <p:spPr>
                          <a:xfrm>
                            <a:off x="1722600" y="2212920"/>
                            <a:ext cx="704520" cy="70632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882800" y="2373480"/>
                            <a:ext cx="385560" cy="38556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946160" y="2438280"/>
                            <a:ext cx="257400" cy="25740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674720" y="2166840"/>
                            <a:ext cx="800280" cy="80028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1676520" y="2163600"/>
                          <a:ext cx="798480" cy="80028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nvGrpSpPr>
              <p:cNvPr id="211" name=""/>
              <p:cNvGrpSpPr/>
              <p:nvPr/>
            </p:nvGrpSpPr>
            <p:grpSpPr>
              <a:xfrm>
                <a:off x="1676520" y="2165400"/>
                <a:ext cx="799920" cy="799920"/>
                <a:chOff x="1676520" y="2165400"/>
                <a:chExt cx="799920" cy="799920"/>
              </a:xfrm>
            </p:grpSpPr>
            <p:sp>
              <p:nvSpPr>
                <p:cNvPr id="212" name=""/>
                <p:cNvSpPr/>
                <p:nvPr/>
              </p:nvSpPr>
              <p:spPr>
                <a:xfrm>
                  <a:off x="1724040" y="2212920"/>
                  <a:ext cx="704880" cy="70488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884240" y="2373480"/>
                  <a:ext cx="385920" cy="38412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47960" y="2436840"/>
                  <a:ext cx="257040" cy="25704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76520" y="2165400"/>
                  <a:ext cx="799920" cy="79992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1992240" y="2517840"/>
                <a:ext cx="131760" cy="120600"/>
                <a:chOff x="1992240" y="2517840"/>
                <a:chExt cx="131760" cy="120600"/>
              </a:xfrm>
            </p:grpSpPr>
            <p:sp>
              <p:nvSpPr>
                <p:cNvPr id="217" name=""/>
                <p:cNvSpPr/>
                <p:nvPr/>
              </p:nvSpPr>
              <p:spPr>
                <a:xfrm>
                  <a:off x="2014560" y="2517840"/>
                  <a:ext cx="109440" cy="111240"/>
                </a:xfrm>
                <a:custGeom>
                  <a:avLst/>
                  <a:gdLst/>
                  <a:ahLst/>
                  <a:rect l="l" t="t" r="r" b="b"/>
                  <a:pathLst>
                    <a:path w="206" h="209">
                      <a:moveTo>
                        <a:pt x="0" y="57"/>
                      </a:moveTo>
                      <a:lnTo>
                        <a:pt x="96" y="209"/>
                      </a:lnTo>
                      <a:lnTo>
                        <a:pt x="170" y="161"/>
                      </a:lnTo>
                      <a:lnTo>
                        <a:pt x="176" y="156"/>
                      </a:lnTo>
                      <a:lnTo>
                        <a:pt x="182" y="151"/>
                      </a:lnTo>
                      <a:lnTo>
                        <a:pt x="187" y="144"/>
                      </a:lnTo>
                      <a:lnTo>
                        <a:pt x="192" y="139"/>
                      </a:lnTo>
                      <a:lnTo>
                        <a:pt x="196" y="132"/>
                      </a:lnTo>
                      <a:lnTo>
                        <a:pt x="200" y="125"/>
                      </a:lnTo>
                      <a:lnTo>
                        <a:pt x="202" y="118"/>
                      </a:lnTo>
                      <a:lnTo>
                        <a:pt x="204" y="110"/>
                      </a:lnTo>
                      <a:lnTo>
                        <a:pt x="206" y="100"/>
                      </a:lnTo>
                      <a:lnTo>
                        <a:pt x="206" y="91"/>
                      </a:lnTo>
                      <a:lnTo>
                        <a:pt x="206" y="84"/>
                      </a:lnTo>
                      <a:lnTo>
                        <a:pt x="205" y="77"/>
                      </a:lnTo>
                      <a:lnTo>
                        <a:pt x="204" y="70"/>
                      </a:lnTo>
                      <a:lnTo>
                        <a:pt x="202" y="62"/>
                      </a:lnTo>
                      <a:lnTo>
                        <a:pt x="199" y="54"/>
                      </a:lnTo>
                      <a:lnTo>
                        <a:pt x="195" y="46"/>
                      </a:lnTo>
                      <a:lnTo>
                        <a:pt x="191" y="39"/>
                      </a:lnTo>
                      <a:lnTo>
                        <a:pt x="185" y="33"/>
                      </a:lnTo>
                      <a:lnTo>
                        <a:pt x="180" y="27"/>
                      </a:lnTo>
                      <a:lnTo>
                        <a:pt x="173" y="20"/>
                      </a:lnTo>
                      <a:lnTo>
                        <a:pt x="166" y="16"/>
                      </a:lnTo>
                      <a:lnTo>
                        <a:pt x="159" y="11"/>
                      </a:lnTo>
                      <a:lnTo>
                        <a:pt x="152" y="7"/>
                      </a:lnTo>
                      <a:lnTo>
                        <a:pt x="145" y="4"/>
                      </a:lnTo>
                      <a:lnTo>
                        <a:pt x="138" y="2"/>
                      </a:lnTo>
                      <a:lnTo>
                        <a:pt x="131" y="0"/>
                      </a:lnTo>
                      <a:lnTo>
                        <a:pt x="122" y="0"/>
                      </a:lnTo>
                      <a:lnTo>
                        <a:pt x="115" y="0"/>
                      </a:lnTo>
                      <a:lnTo>
                        <a:pt x="108" y="0"/>
                      </a:lnTo>
                      <a:lnTo>
                        <a:pt x="101" y="1"/>
                      </a:lnTo>
                      <a:lnTo>
                        <a:pt x="92" y="3"/>
                      </a:lnTo>
                      <a:lnTo>
                        <a:pt x="81" y="7"/>
                      </a:lnTo>
                      <a:lnTo>
                        <a:pt x="0" y="57"/>
                      </a:lnTo>
                      <a:close/>
                    </a:path>
                  </a:pathLst>
                </a:custGeom>
                <a:solidFill>
                  <a:srgbClr val="a0a0a0"/>
                </a:solidFill>
                <a:ln w="46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062080" y="2521080"/>
                  <a:ext cx="46080" cy="34920"/>
                </a:xfrm>
                <a:custGeom>
                  <a:avLst/>
                  <a:gdLst/>
                  <a:ahLst/>
                  <a:rect l="l" t="t" r="r" b="b"/>
                  <a:pathLst>
                    <a:path w="86" h="66">
                      <a:moveTo>
                        <a:pt x="0" y="45"/>
                      </a:moveTo>
                      <a:lnTo>
                        <a:pt x="62" y="0"/>
                      </a:lnTo>
                      <a:lnTo>
                        <a:pt x="68" y="2"/>
                      </a:lnTo>
                      <a:lnTo>
                        <a:pt x="73" y="6"/>
                      </a:lnTo>
                      <a:lnTo>
                        <a:pt x="78" y="9"/>
                      </a:lnTo>
                      <a:lnTo>
                        <a:pt x="82" y="12"/>
                      </a:lnTo>
                      <a:lnTo>
                        <a:pt x="86" y="16"/>
                      </a:lnTo>
                      <a:lnTo>
                        <a:pt x="25" y="66"/>
                      </a:lnTo>
                      <a:lnTo>
                        <a:pt x="0" y="45"/>
                      </a:lnTo>
                      <a:close/>
                    </a:path>
                  </a:pathLst>
                </a:custGeom>
                <a:solidFill>
                  <a:srgbClr val="e0e0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9" name=""/>
                <p:cNvSpPr/>
                <p:nvPr/>
              </p:nvSpPr>
              <p:spPr>
                <a:xfrm>
                  <a:off x="1992240" y="2538360"/>
                  <a:ext cx="100080" cy="100080"/>
                </a:xfrm>
                <a:prstGeom prst="ellipse">
                  <a:avLst/>
                </a:prstGeom>
                <a:solidFill>
                  <a:srgbClr val="808080"/>
                </a:solidFill>
                <a:ln w="4680">
                  <a:solidFill>
                    <a:srgbClr val="c0c0c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220" name=""/>
            <p:cNvSpPr/>
            <p:nvPr/>
          </p:nvSpPr>
          <p:spPr>
            <a:xfrm>
              <a:off x="2550960" y="2351160"/>
              <a:ext cx="44640" cy="55440"/>
            </a:xfrm>
            <a:custGeom>
              <a:avLst/>
              <a:gdLst/>
              <a:ahLst/>
              <a:rect l="l" t="t" r="r" b="b"/>
              <a:pathLst>
                <a:path w="82" h="105">
                  <a:moveTo>
                    <a:pt x="16" y="18"/>
                  </a:moveTo>
                  <a:lnTo>
                    <a:pt x="23" y="46"/>
                  </a:lnTo>
                  <a:lnTo>
                    <a:pt x="0" y="65"/>
                  </a:lnTo>
                  <a:lnTo>
                    <a:pt x="8" y="96"/>
                  </a:lnTo>
                  <a:lnTo>
                    <a:pt x="32" y="77"/>
                  </a:lnTo>
                  <a:lnTo>
                    <a:pt x="38" y="105"/>
                  </a:lnTo>
                  <a:lnTo>
                    <a:pt x="62" y="90"/>
                  </a:lnTo>
                  <a:lnTo>
                    <a:pt x="57" y="63"/>
                  </a:lnTo>
                  <a:lnTo>
                    <a:pt x="82" y="44"/>
                  </a:lnTo>
                  <a:lnTo>
                    <a:pt x="76" y="13"/>
                  </a:lnTo>
                  <a:lnTo>
                    <a:pt x="51" y="28"/>
                  </a:lnTo>
                  <a:lnTo>
                    <a:pt x="44" y="0"/>
                  </a:lnTo>
                  <a:lnTo>
                    <a:pt x="16"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21" name=""/>
          <p:cNvGrpSpPr/>
          <p:nvPr/>
        </p:nvGrpSpPr>
        <p:grpSpPr>
          <a:xfrm>
            <a:off x="1295280" y="1828800"/>
            <a:ext cx="4343400" cy="2666880"/>
            <a:chOff x="1295280" y="1828800"/>
            <a:chExt cx="4343400" cy="2666880"/>
          </a:xfrm>
        </p:grpSpPr>
        <p:grpSp>
          <p:nvGrpSpPr>
            <p:cNvPr id="222" name=""/>
            <p:cNvGrpSpPr/>
            <p:nvPr/>
          </p:nvGrpSpPr>
          <p:grpSpPr>
            <a:xfrm>
              <a:off x="1295280" y="3048120"/>
              <a:ext cx="1752840" cy="1447560"/>
              <a:chOff x="1295280" y="3048120"/>
              <a:chExt cx="1752840" cy="1447560"/>
            </a:xfrm>
          </p:grpSpPr>
          <p:sp>
            <p:nvSpPr>
              <p:cNvPr id="223" name=""/>
              <p:cNvSpPr/>
              <p:nvPr/>
            </p:nvSpPr>
            <p:spPr>
              <a:xfrm>
                <a:off x="1785960" y="3581280"/>
                <a:ext cx="530280" cy="579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846440" y="37083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225" name=""/>
              <p:cNvSpPr/>
              <p:nvPr/>
            </p:nvSpPr>
            <p:spPr>
              <a:xfrm>
                <a:off x="1657440" y="3311640"/>
                <a:ext cx="114912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1295280" y="3311640"/>
                <a:ext cx="36216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2442960" y="3575160"/>
                <a:ext cx="36324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295280" y="423216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2806560" y="3508200"/>
                <a:ext cx="24156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 name=""/>
              <p:cNvSpPr/>
              <p:nvPr/>
            </p:nvSpPr>
            <p:spPr>
              <a:xfrm>
                <a:off x="3048120" y="350820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2443320" y="4232160"/>
                <a:ext cx="60480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1657440" y="3244680"/>
                <a:ext cx="24264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3" name=""/>
              <p:cNvSpPr/>
              <p:nvPr/>
            </p:nvSpPr>
            <p:spPr>
              <a:xfrm>
                <a:off x="1900080" y="324468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900080" y="3048120"/>
                <a:ext cx="181080" cy="66600"/>
              </a:xfrm>
              <a:prstGeom prst="ellipse">
                <a:avLst/>
              </a:prstGeom>
              <a:solidFill>
                <a:srgbClr val="ff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35" name=""/>
              <p:cNvSpPr/>
              <p:nvPr/>
            </p:nvSpPr>
            <p:spPr>
              <a:xfrm>
                <a:off x="1900080" y="3114720"/>
                <a:ext cx="181080" cy="196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503440" y="3179880"/>
                <a:ext cx="182520" cy="64800"/>
              </a:xfrm>
              <a:prstGeom prst="ellipse">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37" name=""/>
              <p:cNvSpPr/>
              <p:nvPr/>
            </p:nvSpPr>
            <p:spPr>
              <a:xfrm>
                <a:off x="2503440" y="3244680"/>
                <a:ext cx="182520" cy="198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8" name=""/>
            <p:cNvGraphicFramePr/>
            <p:nvPr/>
          </p:nvGraphicFramePr>
          <p:xfrm>
            <a:off x="3962520" y="1828800"/>
            <a:ext cx="641160" cy="1155600"/>
          </p:xfrm>
          <a:graphic>
            <a:graphicData uri="http://schemas.openxmlformats.org/presentationml/2006/ole">
              <p:oleObj r:id="rId1" spid="">
                <p:embed/>
                <p:pic>
                  <p:nvPicPr>
                    <p:cNvPr id="239" name="" descr=""/>
                    <p:cNvPicPr/>
                    <p:nvPr/>
                  </p:nvPicPr>
                  <p:blipFill>
                    <a:blip r:embed="rId2"/>
                    <a:stretch/>
                  </p:blipFill>
                  <p:spPr>
                    <a:xfrm>
                      <a:off x="3962520" y="1828800"/>
                      <a:ext cx="641160" cy="1155600"/>
                    </a:xfrm>
                    <a:prstGeom prst="rect">
                      <a:avLst/>
                    </a:prstGeom>
                    <a:ln w="0">
                      <a:noFill/>
                    </a:ln>
                  </p:spPr>
                </p:pic>
              </p:oleObj>
            </a:graphicData>
          </a:graphic>
        </p:graphicFrame>
        <p:grpSp>
          <p:nvGrpSpPr>
            <p:cNvPr id="240" name=""/>
            <p:cNvGrpSpPr/>
            <p:nvPr/>
          </p:nvGrpSpPr>
          <p:grpSpPr>
            <a:xfrm>
              <a:off x="1447560" y="1828800"/>
              <a:ext cx="4191120" cy="1371600"/>
              <a:chOff x="1447560" y="1828800"/>
              <a:chExt cx="4191120" cy="1371600"/>
            </a:xfrm>
          </p:grpSpPr>
          <p:sp>
            <p:nvSpPr>
              <p:cNvPr id="241" name=""/>
              <p:cNvSpPr/>
              <p:nvPr/>
            </p:nvSpPr>
            <p:spPr>
              <a:xfrm>
                <a:off x="2590920" y="320040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3809880" y="1828800"/>
                <a:ext cx="182880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76720" y="1828800"/>
                <a:ext cx="236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3124080" y="1828800"/>
                <a:ext cx="1526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5" name=""/>
              <p:cNvSpPr/>
              <p:nvPr/>
            </p:nvSpPr>
            <p:spPr>
              <a:xfrm flipH="1">
                <a:off x="1447560" y="2666880"/>
                <a:ext cx="53316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447920" y="30481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7" name=""/>
          <p:cNvGrpSpPr/>
          <p:nvPr/>
        </p:nvGrpSpPr>
        <p:grpSpPr>
          <a:xfrm>
            <a:off x="3657600" y="4118040"/>
            <a:ext cx="2286000" cy="2212920"/>
            <a:chOff x="3657600" y="4118040"/>
            <a:chExt cx="2286000" cy="2212920"/>
          </a:xfrm>
        </p:grpSpPr>
        <p:grpSp>
          <p:nvGrpSpPr>
            <p:cNvPr id="248" name=""/>
            <p:cNvGrpSpPr/>
            <p:nvPr/>
          </p:nvGrpSpPr>
          <p:grpSpPr>
            <a:xfrm>
              <a:off x="4724280" y="4267080"/>
              <a:ext cx="152640" cy="762120"/>
              <a:chOff x="4724280" y="4267080"/>
              <a:chExt cx="152640" cy="762120"/>
            </a:xfrm>
          </p:grpSpPr>
          <p:sp>
            <p:nvSpPr>
              <p:cNvPr id="249" name=""/>
              <p:cNvSpPr/>
              <p:nvPr/>
            </p:nvSpPr>
            <p:spPr>
              <a:xfrm>
                <a:off x="4724280" y="426708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876920" y="441972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4326840" y="4118040"/>
              <a:ext cx="896760" cy="458280"/>
              <a:chOff x="4326840" y="4118040"/>
              <a:chExt cx="896760" cy="458280"/>
            </a:xfrm>
          </p:grpSpPr>
          <p:sp>
            <p:nvSpPr>
              <p:cNvPr id="252" name=""/>
              <p:cNvSpPr/>
              <p:nvPr/>
            </p:nvSpPr>
            <p:spPr>
              <a:xfrm>
                <a:off x="4326840" y="411804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sp>
            <p:nvSpPr>
              <p:cNvPr id="253" name=""/>
              <p:cNvSpPr/>
              <p:nvPr/>
            </p:nvSpPr>
            <p:spPr>
              <a:xfrm>
                <a:off x="4936320" y="4118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grpSp>
        <p:grpSp>
          <p:nvGrpSpPr>
            <p:cNvPr id="254" name=""/>
            <p:cNvGrpSpPr/>
            <p:nvPr/>
          </p:nvGrpSpPr>
          <p:grpSpPr>
            <a:xfrm>
              <a:off x="3657600" y="5870520"/>
              <a:ext cx="762120" cy="458280"/>
              <a:chOff x="3657600" y="5870520"/>
              <a:chExt cx="762120" cy="458280"/>
            </a:xfrm>
          </p:grpSpPr>
          <p:sp>
            <p:nvSpPr>
              <p:cNvPr id="255" name=""/>
              <p:cNvSpPr/>
              <p:nvPr/>
            </p:nvSpPr>
            <p:spPr>
              <a:xfrm>
                <a:off x="3657600" y="6172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267080" y="61722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70360" y="587052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258" name=""/>
              <p:cNvSpPr/>
              <p:nvPr/>
            </p:nvSpPr>
            <p:spPr>
              <a:xfrm>
                <a:off x="3816360" y="5873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5181480" y="5873760"/>
              <a:ext cx="762120" cy="457200"/>
              <a:chOff x="5181480" y="5873760"/>
              <a:chExt cx="762120" cy="457200"/>
            </a:xfrm>
          </p:grpSpPr>
          <p:sp>
            <p:nvSpPr>
              <p:cNvPr id="260" name=""/>
              <p:cNvSpPr/>
              <p:nvPr/>
            </p:nvSpPr>
            <p:spPr>
              <a:xfrm>
                <a:off x="5181480" y="61722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rot="16140000">
                <a:off x="5448960" y="606168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15000" y="61722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340240" y="5873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3657600" y="4648320"/>
              <a:ext cx="2286000" cy="1523880"/>
              <a:chOff x="3657600" y="4648320"/>
              <a:chExt cx="2286000" cy="1523880"/>
            </a:xfrm>
          </p:grpSpPr>
          <p:sp>
            <p:nvSpPr>
              <p:cNvPr id="265" name=""/>
              <p:cNvSpPr/>
              <p:nvPr/>
            </p:nvSpPr>
            <p:spPr>
              <a:xfrm>
                <a:off x="3657600" y="46483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029200" y="46483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657600" y="464832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43600" y="464832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4343400" y="6172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5CA6698E-3BE6-46A5-B034-944A4A982F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 Circuit</a:t>
            </a:r>
            <a:endParaRPr b="0" lang="en-US" sz="4400" spc="-1" strike="noStrike">
              <a:solidFill>
                <a:srgbClr val="000000"/>
              </a:solidFill>
              <a:latin typeface="Times New Roman"/>
            </a:endParaRPr>
          </a:p>
        </p:txBody>
      </p:sp>
      <p:sp>
        <p:nvSpPr>
          <p:cNvPr id="271" name=""/>
          <p:cNvSpPr/>
          <p:nvPr/>
        </p:nvSpPr>
        <p:spPr>
          <a:xfrm>
            <a:off x="5334120" y="2438280"/>
            <a:ext cx="99036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52040" y="3008160"/>
            <a:ext cx="29055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onstruct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ircuit diagram</a:t>
            </a:r>
            <a:endParaRPr b="0" lang="en-US" sz="2800" spc="-1" strike="noStrike">
              <a:solidFill>
                <a:srgbClr val="000000"/>
              </a:solidFill>
              <a:latin typeface="Times New Roman"/>
            </a:endParaRPr>
          </a:p>
        </p:txBody>
      </p:sp>
      <p:sp>
        <p:nvSpPr>
          <p:cNvPr id="273" name=""/>
          <p:cNvSpPr/>
          <p:nvPr/>
        </p:nvSpPr>
        <p:spPr>
          <a:xfrm flipH="1">
            <a:off x="6858000" y="4038480"/>
            <a:ext cx="99072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 name=""/>
          <p:cNvGrpSpPr/>
          <p:nvPr/>
        </p:nvGrpSpPr>
        <p:grpSpPr>
          <a:xfrm>
            <a:off x="1126800" y="1060560"/>
            <a:ext cx="2454120" cy="1646640"/>
            <a:chOff x="1126800" y="1060560"/>
            <a:chExt cx="2454120" cy="1646640"/>
          </a:xfrm>
        </p:grpSpPr>
        <p:sp>
          <p:nvSpPr>
            <p:cNvPr id="275" name=""/>
            <p:cNvSpPr/>
            <p:nvPr/>
          </p:nvSpPr>
          <p:spPr>
            <a:xfrm>
              <a:off x="1126800" y="212724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sp>
          <p:nvSpPr>
            <p:cNvPr id="276" name=""/>
            <p:cNvSpPr/>
            <p:nvPr/>
          </p:nvSpPr>
          <p:spPr>
            <a:xfrm>
              <a:off x="3260160" y="1060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grpSp>
      <p:grpSp>
        <p:nvGrpSpPr>
          <p:cNvPr id="277" name=""/>
          <p:cNvGrpSpPr/>
          <p:nvPr/>
        </p:nvGrpSpPr>
        <p:grpSpPr>
          <a:xfrm>
            <a:off x="425520" y="1052640"/>
            <a:ext cx="5060880" cy="2985840"/>
            <a:chOff x="425520" y="1052640"/>
            <a:chExt cx="5060880" cy="2985840"/>
          </a:xfrm>
        </p:grpSpPr>
        <p:graphicFrame>
          <p:nvGraphicFramePr>
            <p:cNvPr id="278" name=""/>
            <p:cNvGraphicFramePr/>
            <p:nvPr/>
          </p:nvGraphicFramePr>
          <p:xfrm>
            <a:off x="1976400" y="1290600"/>
            <a:ext cx="1452600" cy="1222560"/>
          </p:xfrm>
          <a:graphic>
            <a:graphicData uri="http://schemas.openxmlformats.org/presentationml/2006/ole">
              <p:oleObj r:id="rId1" spid="">
                <p:embed/>
                <p:pic>
                  <p:nvPicPr>
                    <p:cNvPr id="279" name="" descr=""/>
                    <p:cNvPicPr/>
                    <p:nvPr/>
                  </p:nvPicPr>
                  <p:blipFill>
                    <a:blip r:embed="rId2"/>
                    <a:stretch/>
                  </p:blipFill>
                  <p:spPr>
                    <a:xfrm>
                      <a:off x="1976400" y="1290600"/>
                      <a:ext cx="1452600" cy="1222560"/>
                    </a:xfrm>
                    <a:prstGeom prst="rect">
                      <a:avLst/>
                    </a:prstGeom>
                    <a:ln w="0">
                      <a:noFill/>
                    </a:ln>
                  </p:spPr>
                </p:pic>
              </p:oleObj>
            </a:graphicData>
          </a:graphic>
        </p:graphicFrame>
        <p:graphicFrame>
          <p:nvGraphicFramePr>
            <p:cNvPr id="280" name=""/>
            <p:cNvGraphicFramePr/>
            <p:nvPr/>
          </p:nvGraphicFramePr>
          <p:xfrm>
            <a:off x="1138320" y="1824120"/>
            <a:ext cx="1452600" cy="1222200"/>
          </p:xfrm>
          <a:graphic>
            <a:graphicData uri="http://schemas.openxmlformats.org/presentationml/2006/ole">
              <p:oleObj r:id="rId3" spid="">
                <p:embed/>
                <p:pic>
                  <p:nvPicPr>
                    <p:cNvPr id="281" name="" descr=""/>
                    <p:cNvPicPr/>
                    <p:nvPr/>
                  </p:nvPicPr>
                  <p:blipFill>
                    <a:blip r:embed="rId4"/>
                    <a:stretch/>
                  </p:blipFill>
                  <p:spPr>
                    <a:xfrm>
                      <a:off x="1138320" y="1824120"/>
                      <a:ext cx="1452600" cy="1222200"/>
                    </a:xfrm>
                    <a:prstGeom prst="rect">
                      <a:avLst/>
                    </a:prstGeom>
                    <a:ln w="0">
                      <a:noFill/>
                    </a:ln>
                  </p:spPr>
                </p:pic>
              </p:oleObj>
            </a:graphicData>
          </a:graphic>
        </p:graphicFrame>
        <p:graphicFrame>
          <p:nvGraphicFramePr>
            <p:cNvPr id="282" name=""/>
            <p:cNvGraphicFramePr/>
            <p:nvPr/>
          </p:nvGraphicFramePr>
          <p:xfrm>
            <a:off x="425520" y="2195640"/>
            <a:ext cx="641160" cy="1155600"/>
          </p:xfrm>
          <a:graphic>
            <a:graphicData uri="http://schemas.openxmlformats.org/presentationml/2006/ole">
              <p:oleObj r:id="rId5" spid="">
                <p:embed/>
                <p:pic>
                  <p:nvPicPr>
                    <p:cNvPr id="283" name="" descr=""/>
                    <p:cNvPicPr/>
                    <p:nvPr/>
                  </p:nvPicPr>
                  <p:blipFill>
                    <a:blip r:embed="rId6"/>
                    <a:stretch/>
                  </p:blipFill>
                  <p:spPr>
                    <a:xfrm>
                      <a:off x="425520" y="2195640"/>
                      <a:ext cx="641160" cy="1155600"/>
                    </a:xfrm>
                    <a:prstGeom prst="rect">
                      <a:avLst/>
                    </a:prstGeom>
                    <a:ln w="0">
                      <a:noFill/>
                    </a:ln>
                  </p:spPr>
                </p:pic>
              </p:oleObj>
            </a:graphicData>
          </a:graphic>
        </p:graphicFrame>
        <p:grpSp>
          <p:nvGrpSpPr>
            <p:cNvPr id="284" name=""/>
            <p:cNvGrpSpPr/>
            <p:nvPr/>
          </p:nvGrpSpPr>
          <p:grpSpPr>
            <a:xfrm>
              <a:off x="2666880" y="2590920"/>
              <a:ext cx="1752840" cy="1447560"/>
              <a:chOff x="2666880" y="2590920"/>
              <a:chExt cx="1752840" cy="1447560"/>
            </a:xfrm>
          </p:grpSpPr>
          <p:sp>
            <p:nvSpPr>
              <p:cNvPr id="285" name=""/>
              <p:cNvSpPr/>
              <p:nvPr/>
            </p:nvSpPr>
            <p:spPr>
              <a:xfrm>
                <a:off x="3157560" y="3124080"/>
                <a:ext cx="530280" cy="579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218040" y="32511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287" name=""/>
              <p:cNvSpPr/>
              <p:nvPr/>
            </p:nvSpPr>
            <p:spPr>
              <a:xfrm>
                <a:off x="3029040" y="2854440"/>
                <a:ext cx="114912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2666880" y="2854440"/>
                <a:ext cx="36216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3814560" y="3117960"/>
                <a:ext cx="36324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66880" y="377496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4178160" y="3051000"/>
                <a:ext cx="24156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2" name=""/>
              <p:cNvSpPr/>
              <p:nvPr/>
            </p:nvSpPr>
            <p:spPr>
              <a:xfrm>
                <a:off x="4419720" y="305100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3814920" y="3774960"/>
                <a:ext cx="60480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3029040" y="2787480"/>
                <a:ext cx="24264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5" name=""/>
              <p:cNvSpPr/>
              <p:nvPr/>
            </p:nvSpPr>
            <p:spPr>
              <a:xfrm>
                <a:off x="3271680" y="278748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71680" y="2590920"/>
                <a:ext cx="181080" cy="66600"/>
              </a:xfrm>
              <a:prstGeom prst="ellipse">
                <a:avLst/>
              </a:prstGeom>
              <a:solidFill>
                <a:srgbClr val="ff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97" name=""/>
              <p:cNvSpPr/>
              <p:nvPr/>
            </p:nvSpPr>
            <p:spPr>
              <a:xfrm>
                <a:off x="3271680" y="2657520"/>
                <a:ext cx="181080" cy="196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75040" y="2722680"/>
                <a:ext cx="182520" cy="64800"/>
              </a:xfrm>
              <a:prstGeom prst="ellipse">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99" name=""/>
              <p:cNvSpPr/>
              <p:nvPr/>
            </p:nvSpPr>
            <p:spPr>
              <a:xfrm>
                <a:off x="3875040" y="2787480"/>
                <a:ext cx="182520" cy="198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0" name=""/>
            <p:cNvGraphicFramePr/>
            <p:nvPr/>
          </p:nvGraphicFramePr>
          <p:xfrm>
            <a:off x="3854520" y="1433520"/>
            <a:ext cx="641160" cy="1155600"/>
          </p:xfrm>
          <a:graphic>
            <a:graphicData uri="http://schemas.openxmlformats.org/presentationml/2006/ole">
              <p:oleObj r:id="rId7" spid="">
                <p:embed/>
                <p:pic>
                  <p:nvPicPr>
                    <p:cNvPr id="301" name="" descr=""/>
                    <p:cNvPicPr/>
                    <p:nvPr/>
                  </p:nvPicPr>
                  <p:blipFill>
                    <a:blip r:embed="rId8"/>
                    <a:stretch/>
                  </p:blipFill>
                  <p:spPr>
                    <a:xfrm>
                      <a:off x="3854520" y="1433520"/>
                      <a:ext cx="641160" cy="1155600"/>
                    </a:xfrm>
                    <a:prstGeom prst="rect">
                      <a:avLst/>
                    </a:prstGeom>
                    <a:ln w="0">
                      <a:noFill/>
                    </a:ln>
                  </p:spPr>
                </p:pic>
              </p:oleObj>
            </a:graphicData>
          </a:graphic>
        </p:graphicFrame>
        <p:graphicFrame>
          <p:nvGraphicFramePr>
            <p:cNvPr id="302" name=""/>
            <p:cNvGraphicFramePr/>
            <p:nvPr/>
          </p:nvGraphicFramePr>
          <p:xfrm>
            <a:off x="4464000" y="1052640"/>
            <a:ext cx="641520" cy="1155600"/>
          </p:xfrm>
          <a:graphic>
            <a:graphicData uri="http://schemas.openxmlformats.org/presentationml/2006/ole">
              <p:oleObj r:id="rId9" spid="">
                <p:embed/>
                <p:pic>
                  <p:nvPicPr>
                    <p:cNvPr id="303" name="" descr=""/>
                    <p:cNvPicPr/>
                    <p:nvPr/>
                  </p:nvPicPr>
                  <p:blipFill>
                    <a:blip r:embed="rId10"/>
                    <a:stretch/>
                  </p:blipFill>
                  <p:spPr>
                    <a:xfrm>
                      <a:off x="4464000" y="1052640"/>
                      <a:ext cx="641520" cy="1155600"/>
                    </a:xfrm>
                    <a:prstGeom prst="rect">
                      <a:avLst/>
                    </a:prstGeom>
                    <a:ln w="0">
                      <a:noFill/>
                    </a:ln>
                  </p:spPr>
                </p:pic>
              </p:oleObj>
            </a:graphicData>
          </a:graphic>
        </p:graphicFrame>
        <p:grpSp>
          <p:nvGrpSpPr>
            <p:cNvPr id="304" name=""/>
            <p:cNvGrpSpPr/>
            <p:nvPr/>
          </p:nvGrpSpPr>
          <p:grpSpPr>
            <a:xfrm>
              <a:off x="762120" y="1600200"/>
              <a:ext cx="4724280" cy="1676520"/>
              <a:chOff x="762120" y="1600200"/>
              <a:chExt cx="4724280" cy="1676520"/>
            </a:xfrm>
          </p:grpSpPr>
          <p:sp>
            <p:nvSpPr>
              <p:cNvPr id="305" name=""/>
              <p:cNvSpPr/>
              <p:nvPr/>
            </p:nvSpPr>
            <p:spPr>
              <a:xfrm>
                <a:off x="762120" y="32767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3962160" y="1600200"/>
                <a:ext cx="15238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429000" y="1600200"/>
                <a:ext cx="205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837720" y="2666880"/>
                <a:ext cx="685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1905120" y="2666880"/>
                <a:ext cx="9144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19520" y="26668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 name=""/>
          <p:cNvGrpSpPr/>
          <p:nvPr/>
        </p:nvGrpSpPr>
        <p:grpSpPr>
          <a:xfrm>
            <a:off x="3276720" y="4346640"/>
            <a:ext cx="4038480" cy="2290680"/>
            <a:chOff x="3276720" y="4346640"/>
            <a:chExt cx="4038480" cy="2290680"/>
          </a:xfrm>
        </p:grpSpPr>
        <p:grpSp>
          <p:nvGrpSpPr>
            <p:cNvPr id="312" name=""/>
            <p:cNvGrpSpPr/>
            <p:nvPr/>
          </p:nvGrpSpPr>
          <p:grpSpPr>
            <a:xfrm>
              <a:off x="5715000" y="4572000"/>
              <a:ext cx="152280" cy="762120"/>
              <a:chOff x="5715000" y="4572000"/>
              <a:chExt cx="152280" cy="762120"/>
            </a:xfrm>
          </p:grpSpPr>
          <p:sp>
            <p:nvSpPr>
              <p:cNvPr id="313" name=""/>
              <p:cNvSpPr/>
              <p:nvPr/>
            </p:nvSpPr>
            <p:spPr>
              <a:xfrm>
                <a:off x="571500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67280" y="47242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4724280" y="4572000"/>
              <a:ext cx="152640" cy="762120"/>
              <a:chOff x="4724280" y="4572000"/>
              <a:chExt cx="152640" cy="762120"/>
            </a:xfrm>
          </p:grpSpPr>
          <p:sp>
            <p:nvSpPr>
              <p:cNvPr id="316" name=""/>
              <p:cNvSpPr/>
              <p:nvPr/>
            </p:nvSpPr>
            <p:spPr>
              <a:xfrm>
                <a:off x="472428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876920" y="47242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4326840" y="4346640"/>
              <a:ext cx="1887480" cy="458280"/>
              <a:chOff x="4326840" y="4346640"/>
              <a:chExt cx="1887480" cy="458280"/>
            </a:xfrm>
          </p:grpSpPr>
          <p:sp>
            <p:nvSpPr>
              <p:cNvPr id="319" name=""/>
              <p:cNvSpPr/>
              <p:nvPr/>
            </p:nvSpPr>
            <p:spPr>
              <a:xfrm>
                <a:off x="4326840" y="434664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sp>
            <p:nvSpPr>
              <p:cNvPr id="320" name=""/>
              <p:cNvSpPr/>
              <p:nvPr/>
            </p:nvSpPr>
            <p:spPr>
              <a:xfrm>
                <a:off x="5927040" y="43466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grpSp>
        <p:grpSp>
          <p:nvGrpSpPr>
            <p:cNvPr id="321" name=""/>
            <p:cNvGrpSpPr/>
            <p:nvPr/>
          </p:nvGrpSpPr>
          <p:grpSpPr>
            <a:xfrm>
              <a:off x="3276720" y="6178680"/>
              <a:ext cx="761760" cy="458640"/>
              <a:chOff x="3276720" y="6178680"/>
              <a:chExt cx="761760" cy="458640"/>
            </a:xfrm>
          </p:grpSpPr>
          <p:sp>
            <p:nvSpPr>
              <p:cNvPr id="322" name=""/>
              <p:cNvSpPr/>
              <p:nvPr/>
            </p:nvSpPr>
            <p:spPr>
              <a:xfrm>
                <a:off x="3276720" y="647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rot="16140000">
                <a:off x="3545640" y="636804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0988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435480" y="6178680"/>
                <a:ext cx="44424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4572000" y="6175440"/>
              <a:ext cx="762120" cy="458280"/>
              <a:chOff x="4572000" y="6175440"/>
              <a:chExt cx="762120" cy="458280"/>
            </a:xfrm>
          </p:grpSpPr>
          <p:sp>
            <p:nvSpPr>
              <p:cNvPr id="327" name=""/>
              <p:cNvSpPr/>
              <p:nvPr/>
            </p:nvSpPr>
            <p:spPr>
              <a:xfrm>
                <a:off x="4572000" y="64771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181480" y="64771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84760" y="617544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330" name=""/>
              <p:cNvSpPr/>
              <p:nvPr/>
            </p:nvSpPr>
            <p:spPr>
              <a:xfrm>
                <a:off x="4730760" y="6178680"/>
                <a:ext cx="44460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5791320" y="6178680"/>
              <a:ext cx="761760" cy="458640"/>
              <a:chOff x="5791320" y="6178680"/>
              <a:chExt cx="761760" cy="458640"/>
            </a:xfrm>
          </p:grpSpPr>
          <p:sp>
            <p:nvSpPr>
              <p:cNvPr id="332" name=""/>
              <p:cNvSpPr/>
              <p:nvPr/>
            </p:nvSpPr>
            <p:spPr>
              <a:xfrm>
                <a:off x="5791320" y="647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40000">
                <a:off x="6060240" y="636804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32448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950080" y="6178680"/>
                <a:ext cx="44424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553080" y="6178680"/>
              <a:ext cx="762120" cy="458640"/>
              <a:chOff x="6553080" y="6178680"/>
              <a:chExt cx="762120" cy="458640"/>
            </a:xfrm>
          </p:grpSpPr>
          <p:sp>
            <p:nvSpPr>
              <p:cNvPr id="337" name=""/>
              <p:cNvSpPr/>
              <p:nvPr/>
            </p:nvSpPr>
            <p:spPr>
              <a:xfrm>
                <a:off x="6553080" y="6477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40000">
                <a:off x="6822000" y="6368400"/>
                <a:ext cx="307440" cy="22644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8660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11840" y="6178680"/>
                <a:ext cx="44460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 name=""/>
            <p:cNvGrpSpPr/>
            <p:nvPr/>
          </p:nvGrpSpPr>
          <p:grpSpPr>
            <a:xfrm>
              <a:off x="3276720" y="4952880"/>
              <a:ext cx="4038480" cy="1524240"/>
              <a:chOff x="3276720" y="4952880"/>
              <a:chExt cx="4038480" cy="1524240"/>
            </a:xfrm>
          </p:grpSpPr>
          <p:sp>
            <p:nvSpPr>
              <p:cNvPr id="342" name=""/>
              <p:cNvSpPr/>
              <p:nvPr/>
            </p:nvSpPr>
            <p:spPr>
              <a:xfrm>
                <a:off x="3276720" y="49528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019920" y="495288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029200" y="49528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276720" y="495288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962520" y="64771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315200" y="495288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5334120" y="64771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44C0FC7E-49C0-4EBF-B2D1-52EB89111804}"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scribe the utilization of ammeters and voltmeters in circui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scribe the utilization of fuses and circuit breakers in protecting electrical circui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F06F69-9E53-49F5-BE5B-38FA51F124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it Defined</a:t>
            </a:r>
            <a:endParaRPr b="0" lang="en-US" sz="4400" spc="-1" strike="noStrike">
              <a:solidFill>
                <a:srgbClr val="000000"/>
              </a:solidFill>
              <a:latin typeface="Times New Roman"/>
            </a:endParaRPr>
          </a:p>
        </p:txBody>
      </p:sp>
      <p:sp>
        <p:nvSpPr>
          <p:cNvPr id="59" name="PlaceHolder 2"/>
          <p:cNvSpPr>
            <a:spLocks noGrp="1"/>
          </p:cNvSpPr>
          <p:nvPr>
            <p:ph/>
          </p:nvPr>
        </p:nvSpPr>
        <p:spPr>
          <a:xfrm>
            <a:off x="838080" y="1905120"/>
            <a:ext cx="50292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ircuit is a path for electrons to flow through. The path is from a power source’s negative terminal, through the various components and on to the positive termin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ation</a:t>
            </a:r>
            <a:endParaRPr b="0" lang="en-US" sz="2000" spc="-1" strike="noStrike">
              <a:solidFill>
                <a:srgbClr val="000000"/>
              </a:solidFill>
              <a:latin typeface="Times New Roman"/>
            </a:endParaRPr>
          </a:p>
        </p:txBody>
      </p:sp>
      <p:grpSp>
        <p:nvGrpSpPr>
          <p:cNvPr id="60" name=""/>
          <p:cNvGrpSpPr/>
          <p:nvPr/>
        </p:nvGrpSpPr>
        <p:grpSpPr>
          <a:xfrm>
            <a:off x="0" y="1789200"/>
            <a:ext cx="9144000" cy="3186000"/>
            <a:chOff x="0" y="1789200"/>
            <a:chExt cx="9144000" cy="3186000"/>
          </a:xfrm>
        </p:grpSpPr>
        <p:sp>
          <p:nvSpPr>
            <p:cNvPr id="61" name=""/>
            <p:cNvSpPr/>
            <p:nvPr/>
          </p:nvSpPr>
          <p:spPr>
            <a:xfrm>
              <a:off x="0" y="1789200"/>
              <a:ext cx="5486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0" y="1789200"/>
              <a:ext cx="9144000" cy="31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63" name="circuit1" descr="Simple Circuit Diagram"/>
          <p:cNvPicPr/>
          <p:nvPr/>
        </p:nvPicPr>
        <p:blipFill>
          <a:blip r:embed="rId1"/>
          <a:stretch/>
        </p:blipFill>
        <p:spPr>
          <a:xfrm>
            <a:off x="5791320" y="2590920"/>
            <a:ext cx="3039840" cy="3235320"/>
          </a:xfrm>
          <a:prstGeom prst="rect">
            <a:avLst/>
          </a:prstGeom>
          <a:ln w="0">
            <a:noFill/>
          </a:ln>
        </p:spPr>
      </p:pic>
      <p:sp>
        <p:nvSpPr>
          <p:cNvPr id="4" name="PlaceHolder 3"/>
          <p:cNvSpPr>
            <a:spLocks noGrp="1"/>
          </p:cNvSpPr>
          <p:nvPr>
            <p:ph type="sldNum" idx="3"/>
          </p:nvPr>
        </p:nvSpPr>
        <p:spPr/>
        <p:txBody>
          <a:bodyPr/>
          <a:p>
            <a:fld id="{B4794E4A-B98B-4D5D-BB83-EFB89DB2F3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omponents - Source</a:t>
            </a:r>
            <a:endParaRPr b="0" lang="en-US" sz="4400" spc="-1" strike="noStrike">
              <a:solidFill>
                <a:srgbClr val="000000"/>
              </a:solidFill>
              <a:latin typeface="Times New Roman"/>
            </a:endParaRPr>
          </a:p>
        </p:txBody>
      </p:sp>
      <p:sp>
        <p:nvSpPr>
          <p:cNvPr id="65" name=""/>
          <p:cNvSpPr/>
          <p:nvPr/>
        </p:nvSpPr>
        <p:spPr>
          <a:xfrm>
            <a:off x="1216440" y="1670040"/>
            <a:ext cx="19803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Braggadocio"/>
                <a:ea typeface="PMingLiU"/>
              </a:rPr>
              <a:t>DRY CELL</a:t>
            </a:r>
            <a:endParaRPr b="0" lang="en-US" sz="3200" spc="-1" strike="noStrike">
              <a:solidFill>
                <a:srgbClr val="000000"/>
              </a:solidFill>
              <a:latin typeface="Times New Roman"/>
            </a:endParaRPr>
          </a:p>
        </p:txBody>
      </p:sp>
      <p:graphicFrame>
        <p:nvGraphicFramePr>
          <p:cNvPr id="66" name=""/>
          <p:cNvGraphicFramePr/>
          <p:nvPr/>
        </p:nvGraphicFramePr>
        <p:xfrm>
          <a:off x="2662200" y="3657600"/>
          <a:ext cx="2808360" cy="2360520"/>
        </p:xfrm>
        <a:graphic>
          <a:graphicData uri="http://schemas.openxmlformats.org/presentationml/2006/ole">
            <p:oleObj r:id="rId1" spid="">
              <p:embed/>
              <p:pic>
                <p:nvPicPr>
                  <p:cNvPr id="67" name="" descr=""/>
                  <p:cNvPicPr/>
                  <p:nvPr/>
                </p:nvPicPr>
                <p:blipFill>
                  <a:blip r:embed="rId2"/>
                  <a:stretch/>
                </p:blipFill>
                <p:spPr>
                  <a:xfrm>
                    <a:off x="2662200" y="3657600"/>
                    <a:ext cx="2808360" cy="2360520"/>
                  </a:xfrm>
                  <a:prstGeom prst="rect">
                    <a:avLst/>
                  </a:prstGeom>
                  <a:ln w="0">
                    <a:noFill/>
                  </a:ln>
                </p:spPr>
              </p:pic>
            </p:oleObj>
          </a:graphicData>
        </a:graphic>
      </p:graphicFrame>
      <p:sp>
        <p:nvSpPr>
          <p:cNvPr id="68" name=""/>
          <p:cNvSpPr/>
          <p:nvPr/>
        </p:nvSpPr>
        <p:spPr>
          <a:xfrm>
            <a:off x="3405600" y="2508120"/>
            <a:ext cx="4784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ea typeface="PMingLiU"/>
              </a:rPr>
              <a:t>a source of electrical energy</a:t>
            </a:r>
            <a:endParaRPr b="0" lang="en-US" sz="3200" spc="-1" strike="noStrike">
              <a:solidFill>
                <a:srgbClr val="000000"/>
              </a:solidFill>
              <a:latin typeface="Times New Roman"/>
            </a:endParaRPr>
          </a:p>
        </p:txBody>
      </p:sp>
      <p:grpSp>
        <p:nvGrpSpPr>
          <p:cNvPr id="69" name=""/>
          <p:cNvGrpSpPr/>
          <p:nvPr/>
        </p:nvGrpSpPr>
        <p:grpSpPr>
          <a:xfrm>
            <a:off x="2651040" y="3287880"/>
            <a:ext cx="3130920" cy="2850480"/>
            <a:chOff x="2651040" y="3287880"/>
            <a:chExt cx="3130920" cy="2850480"/>
          </a:xfrm>
        </p:grpSpPr>
        <p:sp>
          <p:nvSpPr>
            <p:cNvPr id="70" name=""/>
            <p:cNvSpPr/>
            <p:nvPr/>
          </p:nvSpPr>
          <p:spPr>
            <a:xfrm>
              <a:off x="2651040" y="5040360"/>
              <a:ext cx="662040" cy="1098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PMingLiU"/>
                </a:rPr>
                <a:t>+</a:t>
              </a:r>
              <a:endParaRPr b="0" lang="en-US" sz="6600" spc="-1" strike="noStrike">
                <a:solidFill>
                  <a:srgbClr val="000000"/>
                </a:solidFill>
                <a:latin typeface="Times New Roman"/>
              </a:endParaRPr>
            </a:p>
          </p:txBody>
        </p:sp>
        <p:sp>
          <p:nvSpPr>
            <p:cNvPr id="71" name=""/>
            <p:cNvSpPr/>
            <p:nvPr/>
          </p:nvSpPr>
          <p:spPr>
            <a:xfrm>
              <a:off x="5317920" y="3287880"/>
              <a:ext cx="464040" cy="1098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PMingLiU"/>
                </a:rPr>
                <a:t>-</a:t>
              </a:r>
              <a:endParaRPr b="0" lang="en-US" sz="6600" spc="-1" strike="noStrike">
                <a:solidFill>
                  <a:srgbClr val="000000"/>
                </a:solidFill>
                <a:latin typeface="Times New Roman"/>
              </a:endParaRPr>
            </a:p>
          </p:txBody>
        </p:sp>
      </p:grpSp>
      <p:sp>
        <p:nvSpPr>
          <p:cNvPr id="3" name="PlaceHolder 2"/>
          <p:cNvSpPr>
            <a:spLocks noGrp="1"/>
          </p:cNvSpPr>
          <p:nvPr>
            <p:ph type="sldNum" idx="3"/>
          </p:nvPr>
        </p:nvSpPr>
        <p:spPr/>
        <p:txBody>
          <a:bodyPr/>
          <a:p>
            <a:fld id="{DD7889EF-C636-4AA6-BF17-34085B16349E}" type="slidenum">
              <a:t>4</a:t>
            </a:fld>
          </a:p>
        </p:txBody>
      </p:sp>
    </p:spTree>
  </p:cSld>
  <p:transition spd="slow" advTm="10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 Load</a:t>
            </a:r>
            <a:endParaRPr b="0" lang="en-US" sz="4400" spc="-1" strike="noStrike">
              <a:solidFill>
                <a:srgbClr val="000000"/>
              </a:solidFill>
              <a:latin typeface="Times New Roman"/>
            </a:endParaRPr>
          </a:p>
        </p:txBody>
      </p:sp>
      <p:sp>
        <p:nvSpPr>
          <p:cNvPr id="73" name=""/>
          <p:cNvSpPr/>
          <p:nvPr/>
        </p:nvSpPr>
        <p:spPr>
          <a:xfrm>
            <a:off x="1765440" y="1670040"/>
            <a:ext cx="2505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aggadocio"/>
                <a:ea typeface="PMingLiU"/>
              </a:rPr>
              <a:t>LIGHT BULB</a:t>
            </a:r>
            <a:endParaRPr b="0" lang="en-US" sz="3200" spc="-1" strike="noStrike">
              <a:solidFill>
                <a:srgbClr val="000000"/>
              </a:solidFill>
              <a:latin typeface="Times New Roman"/>
            </a:endParaRPr>
          </a:p>
        </p:txBody>
      </p:sp>
      <p:graphicFrame>
        <p:nvGraphicFramePr>
          <p:cNvPr id="74" name=""/>
          <p:cNvGraphicFramePr/>
          <p:nvPr/>
        </p:nvGraphicFramePr>
        <p:xfrm>
          <a:off x="4159080" y="3710160"/>
          <a:ext cx="1182960" cy="2131920"/>
        </p:xfrm>
        <a:graphic>
          <a:graphicData uri="http://schemas.openxmlformats.org/presentationml/2006/ole">
            <p:oleObj r:id="rId1" spid="">
              <p:embed/>
              <p:pic>
                <p:nvPicPr>
                  <p:cNvPr id="75" name="" descr=""/>
                  <p:cNvPicPr/>
                  <p:nvPr/>
                </p:nvPicPr>
                <p:blipFill>
                  <a:blip r:embed="rId2"/>
                  <a:stretch/>
                </p:blipFill>
                <p:spPr>
                  <a:xfrm>
                    <a:off x="4159080" y="3710160"/>
                    <a:ext cx="1182960" cy="2131920"/>
                  </a:xfrm>
                  <a:prstGeom prst="rect">
                    <a:avLst/>
                  </a:prstGeom>
                  <a:ln w="0">
                    <a:noFill/>
                  </a:ln>
                </p:spPr>
              </p:pic>
            </p:oleObj>
          </a:graphicData>
        </a:graphic>
      </p:graphicFrame>
      <p:sp>
        <p:nvSpPr>
          <p:cNvPr id="76" name=""/>
          <p:cNvSpPr/>
          <p:nvPr/>
        </p:nvSpPr>
        <p:spPr>
          <a:xfrm>
            <a:off x="4107960" y="1905120"/>
            <a:ext cx="399060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lights up wh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electricity pass through</a:t>
            </a:r>
            <a:endParaRPr b="0" lang="en-US" sz="3200" spc="-1" strike="noStrike">
              <a:solidFill>
                <a:srgbClr val="000000"/>
              </a:solidFill>
              <a:latin typeface="Times New Roman"/>
            </a:endParaRPr>
          </a:p>
        </p:txBody>
      </p:sp>
      <p:grpSp>
        <p:nvGrpSpPr>
          <p:cNvPr id="77" name=""/>
          <p:cNvGrpSpPr/>
          <p:nvPr/>
        </p:nvGrpSpPr>
        <p:grpSpPr>
          <a:xfrm>
            <a:off x="762120" y="5500800"/>
            <a:ext cx="7619760" cy="333360"/>
            <a:chOff x="762120" y="5500800"/>
            <a:chExt cx="7619760" cy="333360"/>
          </a:xfrm>
        </p:grpSpPr>
        <p:sp>
          <p:nvSpPr>
            <p:cNvPr id="78" name=""/>
            <p:cNvSpPr/>
            <p:nvPr/>
          </p:nvSpPr>
          <p:spPr>
            <a:xfrm>
              <a:off x="762120" y="5791320"/>
              <a:ext cx="3881160" cy="19080"/>
            </a:xfrm>
            <a:prstGeom prst="line">
              <a:avLst/>
            </a:prstGeom>
            <a:ln w="127080">
              <a:solidFill>
                <a:srgbClr val="3333cc"/>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 name=""/>
            <p:cNvSpPr/>
            <p:nvPr/>
          </p:nvSpPr>
          <p:spPr>
            <a:xfrm>
              <a:off x="4929120" y="5500800"/>
              <a:ext cx="619200" cy="333360"/>
            </a:xfrm>
            <a:prstGeom prst="line">
              <a:avLst/>
            </a:prstGeom>
            <a:ln w="127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5452920" y="5810400"/>
              <a:ext cx="2928960" cy="23760"/>
            </a:xfrm>
            <a:prstGeom prst="line">
              <a:avLst/>
            </a:prstGeom>
            <a:ln w="127080">
              <a:solidFill>
                <a:srgbClr val="3333cc"/>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81" name=""/>
          <p:cNvGrpSpPr/>
          <p:nvPr/>
        </p:nvGrpSpPr>
        <p:grpSpPr>
          <a:xfrm>
            <a:off x="3429000" y="3048120"/>
            <a:ext cx="2590920" cy="1752480"/>
            <a:chOff x="3429000" y="3048120"/>
            <a:chExt cx="2590920" cy="1752480"/>
          </a:xfrm>
        </p:grpSpPr>
        <p:sp>
          <p:nvSpPr>
            <p:cNvPr id="82" name=""/>
            <p:cNvSpPr/>
            <p:nvPr/>
          </p:nvSpPr>
          <p:spPr>
            <a:xfrm flipH="1">
              <a:off x="3580920" y="4648320"/>
              <a:ext cx="38124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3429000" y="4267080"/>
              <a:ext cx="380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flipV="1">
              <a:off x="3505320" y="3657240"/>
              <a:ext cx="38088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3962160" y="3276720"/>
              <a:ext cx="22860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flipV="1">
              <a:off x="4647960" y="3048120"/>
              <a:ext cx="75960" cy="380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5181480" y="3123720"/>
              <a:ext cx="152640" cy="381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5562720" y="3580920"/>
              <a:ext cx="38088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638680" y="4267080"/>
              <a:ext cx="381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62720" y="4724280"/>
              <a:ext cx="38088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F31E8CB-E5C7-472C-9C29-FB1CE5317E54}" type="slidenum">
              <a:t>5</a:t>
            </a:fld>
          </a:p>
        </p:txBody>
      </p:sp>
    </p:spTree>
  </p:cSld>
  <p:transition spd="slow" advTm="12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 - Complete</a:t>
            </a:r>
            <a:endParaRPr b="0" lang="en-US" sz="4400" spc="-1" strike="noStrike">
              <a:solidFill>
                <a:srgbClr val="000000"/>
              </a:solidFill>
              <a:latin typeface="Times New Roman"/>
            </a:endParaRPr>
          </a:p>
        </p:txBody>
      </p:sp>
      <p:sp>
        <p:nvSpPr>
          <p:cNvPr id="92" name=""/>
          <p:cNvSpPr/>
          <p:nvPr/>
        </p:nvSpPr>
        <p:spPr>
          <a:xfrm>
            <a:off x="750600" y="1407960"/>
            <a:ext cx="4732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Source of electrical energy</a:t>
            </a:r>
            <a:endParaRPr b="0" lang="en-US" sz="2800" spc="-1" strike="noStrike">
              <a:solidFill>
                <a:srgbClr val="000000"/>
              </a:solidFill>
              <a:latin typeface="Times New Roman"/>
            </a:endParaRPr>
          </a:p>
        </p:txBody>
      </p:sp>
      <p:grpSp>
        <p:nvGrpSpPr>
          <p:cNvPr id="93" name=""/>
          <p:cNvGrpSpPr/>
          <p:nvPr/>
        </p:nvGrpSpPr>
        <p:grpSpPr>
          <a:xfrm>
            <a:off x="1889280" y="2754360"/>
            <a:ext cx="3130920" cy="2850480"/>
            <a:chOff x="1889280" y="2754360"/>
            <a:chExt cx="3130920" cy="2850480"/>
          </a:xfrm>
        </p:grpSpPr>
        <p:graphicFrame>
          <p:nvGraphicFramePr>
            <p:cNvPr id="94" name=""/>
            <p:cNvGraphicFramePr/>
            <p:nvPr/>
          </p:nvGraphicFramePr>
          <p:xfrm>
            <a:off x="1976400" y="3200400"/>
            <a:ext cx="2808360" cy="2360520"/>
          </p:xfrm>
          <a:graphic>
            <a:graphicData uri="http://schemas.openxmlformats.org/presentationml/2006/ole">
              <p:oleObj r:id="rId1" spid="">
                <p:embed/>
                <p:pic>
                  <p:nvPicPr>
                    <p:cNvPr id="95" name="" descr=""/>
                    <p:cNvPicPr/>
                    <p:nvPr/>
                  </p:nvPicPr>
                  <p:blipFill>
                    <a:blip r:embed="rId2"/>
                    <a:stretch/>
                  </p:blipFill>
                  <p:spPr>
                    <a:xfrm>
                      <a:off x="1976400" y="3200400"/>
                      <a:ext cx="2808360" cy="2360520"/>
                    </a:xfrm>
                    <a:prstGeom prst="rect">
                      <a:avLst/>
                    </a:prstGeom>
                    <a:ln w="0">
                      <a:noFill/>
                    </a:ln>
                  </p:spPr>
                </p:pic>
              </p:oleObj>
            </a:graphicData>
          </a:graphic>
        </p:graphicFrame>
        <p:sp>
          <p:nvSpPr>
            <p:cNvPr id="96" name=""/>
            <p:cNvSpPr/>
            <p:nvPr/>
          </p:nvSpPr>
          <p:spPr>
            <a:xfrm>
              <a:off x="1889280" y="4506840"/>
              <a:ext cx="662040" cy="1098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PMingLiU"/>
                </a:rPr>
                <a:t>+</a:t>
              </a:r>
              <a:endParaRPr b="0" lang="en-US" sz="6600" spc="-1" strike="noStrike">
                <a:solidFill>
                  <a:srgbClr val="000000"/>
                </a:solidFill>
                <a:latin typeface="Times New Roman"/>
              </a:endParaRPr>
            </a:p>
          </p:txBody>
        </p:sp>
        <p:sp>
          <p:nvSpPr>
            <p:cNvPr id="97" name=""/>
            <p:cNvSpPr/>
            <p:nvPr/>
          </p:nvSpPr>
          <p:spPr>
            <a:xfrm>
              <a:off x="4556160" y="2754360"/>
              <a:ext cx="464040" cy="1098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ea typeface="PMingLiU"/>
                </a:rPr>
                <a:t>-</a:t>
              </a:r>
              <a:endParaRPr b="0" lang="en-US" sz="6600" spc="-1" strike="noStrike">
                <a:solidFill>
                  <a:srgbClr val="000000"/>
                </a:solidFill>
                <a:latin typeface="Times New Roman"/>
              </a:endParaRPr>
            </a:p>
          </p:txBody>
        </p:sp>
      </p:grpSp>
      <p:sp>
        <p:nvSpPr>
          <p:cNvPr id="98" name=""/>
          <p:cNvSpPr/>
          <p:nvPr/>
        </p:nvSpPr>
        <p:spPr>
          <a:xfrm>
            <a:off x="714600" y="1865160"/>
            <a:ext cx="2112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Appliances</a:t>
            </a:r>
            <a:endParaRPr b="0" lang="en-US" sz="2800" spc="-1" strike="noStrike">
              <a:solidFill>
                <a:srgbClr val="000000"/>
              </a:solidFill>
              <a:latin typeface="Times New Roman"/>
            </a:endParaRPr>
          </a:p>
        </p:txBody>
      </p:sp>
      <p:graphicFrame>
        <p:nvGraphicFramePr>
          <p:cNvPr id="99" name=""/>
          <p:cNvGraphicFramePr/>
          <p:nvPr/>
        </p:nvGraphicFramePr>
        <p:xfrm>
          <a:off x="6140520" y="2971800"/>
          <a:ext cx="1182600" cy="2131920"/>
        </p:xfrm>
        <a:graphic>
          <a:graphicData uri="http://schemas.openxmlformats.org/presentationml/2006/ole">
            <p:oleObj r:id="rId3" spid="">
              <p:embed/>
              <p:pic>
                <p:nvPicPr>
                  <p:cNvPr id="100" name="" descr=""/>
                  <p:cNvPicPr/>
                  <p:nvPr/>
                </p:nvPicPr>
                <p:blipFill>
                  <a:blip r:embed="rId4"/>
                  <a:stretch/>
                </p:blipFill>
                <p:spPr>
                  <a:xfrm>
                    <a:off x="6140520" y="2971800"/>
                    <a:ext cx="1182600" cy="2131920"/>
                  </a:xfrm>
                  <a:prstGeom prst="rect">
                    <a:avLst/>
                  </a:prstGeom>
                  <a:ln w="0">
                    <a:noFill/>
                  </a:ln>
                </p:spPr>
              </p:pic>
            </p:oleObj>
          </a:graphicData>
        </a:graphic>
      </p:graphicFrame>
      <p:sp>
        <p:nvSpPr>
          <p:cNvPr id="101" name=""/>
          <p:cNvSpPr/>
          <p:nvPr/>
        </p:nvSpPr>
        <p:spPr>
          <a:xfrm>
            <a:off x="551160" y="2398680"/>
            <a:ext cx="3109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omplete circuit</a:t>
            </a:r>
            <a:endParaRPr b="0" lang="en-US" sz="2800" spc="-1" strike="noStrike">
              <a:solidFill>
                <a:srgbClr val="000000"/>
              </a:solidFill>
              <a:latin typeface="Times New Roman"/>
            </a:endParaRPr>
          </a:p>
        </p:txBody>
      </p:sp>
      <p:grpSp>
        <p:nvGrpSpPr>
          <p:cNvPr id="102" name=""/>
          <p:cNvGrpSpPr/>
          <p:nvPr/>
        </p:nvGrpSpPr>
        <p:grpSpPr>
          <a:xfrm>
            <a:off x="1142640" y="3962160"/>
            <a:ext cx="6706080" cy="1981440"/>
            <a:chOff x="1142640" y="3962160"/>
            <a:chExt cx="6706080" cy="1981440"/>
          </a:xfrm>
        </p:grpSpPr>
        <p:sp>
          <p:nvSpPr>
            <p:cNvPr id="103" name=""/>
            <p:cNvSpPr/>
            <p:nvPr/>
          </p:nvSpPr>
          <p:spPr>
            <a:xfrm flipH="1">
              <a:off x="1142640" y="4876920"/>
              <a:ext cx="1600200" cy="1066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143000" y="5943600"/>
              <a:ext cx="3809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00600" y="3962520"/>
              <a:ext cx="1523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4952880" y="5071680"/>
              <a:ext cx="1262160" cy="871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6934320" y="3962160"/>
              <a:ext cx="914400" cy="609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15040" y="5095800"/>
              <a:ext cx="5572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5598720" y="5751360"/>
            <a:ext cx="29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Electricity flows</a:t>
            </a:r>
            <a:endParaRPr b="0" lang="en-US" sz="2800" spc="-1" strike="noStrike">
              <a:solidFill>
                <a:srgbClr val="000000"/>
              </a:solidFill>
              <a:latin typeface="Times New Roman"/>
            </a:endParaRPr>
          </a:p>
        </p:txBody>
      </p:sp>
      <p:grpSp>
        <p:nvGrpSpPr>
          <p:cNvPr id="110" name=""/>
          <p:cNvGrpSpPr/>
          <p:nvPr/>
        </p:nvGrpSpPr>
        <p:grpSpPr>
          <a:xfrm>
            <a:off x="1676520" y="5257440"/>
            <a:ext cx="304560" cy="305280"/>
            <a:chOff x="1676520" y="5257440"/>
            <a:chExt cx="304560" cy="305280"/>
          </a:xfrm>
        </p:grpSpPr>
        <p:sp>
          <p:nvSpPr>
            <p:cNvPr id="111" name=""/>
            <p:cNvSpPr/>
            <p:nvPr/>
          </p:nvSpPr>
          <p:spPr>
            <a:xfrm flipV="1">
              <a:off x="1676520" y="525744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676520" y="5562720"/>
              <a:ext cx="304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057040" y="5714640"/>
            <a:ext cx="152280" cy="457560"/>
            <a:chOff x="2057040" y="5714640"/>
            <a:chExt cx="152280" cy="457560"/>
          </a:xfrm>
        </p:grpSpPr>
        <p:sp>
          <p:nvSpPr>
            <p:cNvPr id="114" name=""/>
            <p:cNvSpPr/>
            <p:nvPr/>
          </p:nvSpPr>
          <p:spPr>
            <a:xfrm flipH="1" flipV="1">
              <a:off x="2057040" y="571464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057040" y="594360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3962160" y="5714640"/>
            <a:ext cx="152280" cy="457560"/>
            <a:chOff x="3962160" y="5714640"/>
            <a:chExt cx="152280" cy="457560"/>
          </a:xfrm>
        </p:grpSpPr>
        <p:sp>
          <p:nvSpPr>
            <p:cNvPr id="117" name=""/>
            <p:cNvSpPr/>
            <p:nvPr/>
          </p:nvSpPr>
          <p:spPr>
            <a:xfrm flipH="1" flipV="1">
              <a:off x="3962160" y="571464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3962160" y="5943600"/>
              <a:ext cx="15228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2720" y="5257800"/>
            <a:ext cx="380880" cy="304920"/>
            <a:chOff x="5562720" y="5257800"/>
            <a:chExt cx="380880" cy="304920"/>
          </a:xfrm>
        </p:grpSpPr>
        <p:sp>
          <p:nvSpPr>
            <p:cNvPr id="120" name=""/>
            <p:cNvSpPr/>
            <p:nvPr/>
          </p:nvSpPr>
          <p:spPr>
            <a:xfrm flipH="1">
              <a:off x="5562720" y="5257800"/>
              <a:ext cx="380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867280" y="5257800"/>
              <a:ext cx="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7238880" y="4191120"/>
            <a:ext cx="304920" cy="228600"/>
            <a:chOff x="7238880" y="4191120"/>
            <a:chExt cx="304920" cy="228600"/>
          </a:xfrm>
        </p:grpSpPr>
        <p:sp>
          <p:nvSpPr>
            <p:cNvPr id="123" name=""/>
            <p:cNvSpPr/>
            <p:nvPr/>
          </p:nvSpPr>
          <p:spPr>
            <a:xfrm>
              <a:off x="7238880" y="4191120"/>
              <a:ext cx="304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67480" y="4191120"/>
              <a:ext cx="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181120" y="3733920"/>
            <a:ext cx="305280" cy="380880"/>
            <a:chOff x="5181120" y="3733920"/>
            <a:chExt cx="305280" cy="380880"/>
          </a:xfrm>
        </p:grpSpPr>
        <p:sp>
          <p:nvSpPr>
            <p:cNvPr id="126" name=""/>
            <p:cNvSpPr/>
            <p:nvPr/>
          </p:nvSpPr>
          <p:spPr>
            <a:xfrm flipH="1">
              <a:off x="5181120" y="3733920"/>
              <a:ext cx="304920" cy="228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57800" y="3962520"/>
              <a:ext cx="22860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5409720" y="2286000"/>
            <a:ext cx="2591280" cy="1752480"/>
            <a:chOff x="5409720" y="2286000"/>
            <a:chExt cx="2591280" cy="1752480"/>
          </a:xfrm>
        </p:grpSpPr>
        <p:sp>
          <p:nvSpPr>
            <p:cNvPr id="129" name=""/>
            <p:cNvSpPr/>
            <p:nvPr/>
          </p:nvSpPr>
          <p:spPr>
            <a:xfrm flipH="1">
              <a:off x="5562720" y="3886200"/>
              <a:ext cx="380880" cy="152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5409720" y="3505320"/>
              <a:ext cx="381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5486400" y="2895480"/>
              <a:ext cx="380880" cy="152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5943240" y="2514240"/>
              <a:ext cx="228600" cy="304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6629400" y="2286000"/>
              <a:ext cx="76320" cy="380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7162920" y="2362320"/>
              <a:ext cx="152280" cy="380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7543800" y="2819520"/>
              <a:ext cx="380880" cy="304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20120" y="3505320"/>
              <a:ext cx="380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543800" y="3962520"/>
              <a:ext cx="38088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38" name=""/>
          <p:cNvSpPr/>
          <p:nvPr/>
        </p:nvSpPr>
        <p:spPr>
          <a:xfrm flipH="1">
            <a:off x="7162560" y="39625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D6AE38-B116-4CF1-9799-E42522F78CCA}" type="slidenum">
              <a:t>6</a:t>
            </a:fld>
          </a:p>
        </p:txBody>
      </p:sp>
    </p:spTree>
  </p:cSld>
  <p:transition spd="slow" advTm="18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 to Know</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n circuit – there is a break somewhere and electricity cannot flow (maybe the switch is op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d circuit – electricity can flow (the switch is clo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circuit – the electricity completes a circuit without going through the lo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 what is using the electric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FE2C5C-D75B-46F4-B5EB-CF71A8F188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ic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ircuit diagrams, also called schematic diagrams, provide a graphic representation of an electric circuit using standard symbol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D76AD94-6077-432D-A114-F8C752486A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ram Symbols</a:t>
            </a:r>
            <a:endParaRPr b="0" lang="en-US" sz="4400" spc="-1" strike="noStrike">
              <a:solidFill>
                <a:srgbClr val="000000"/>
              </a:solidFill>
              <a:latin typeface="Times New Roman"/>
            </a:endParaRPr>
          </a:p>
        </p:txBody>
      </p:sp>
      <p:sp>
        <p:nvSpPr>
          <p:cNvPr id="144" name="PlaceHolder 2"/>
          <p:cNvSpPr>
            <a:spLocks noGrp="1"/>
          </p:cNvSpPr>
          <p:nvPr>
            <p:ph/>
          </p:nvPr>
        </p:nvSpPr>
        <p:spPr>
          <a:xfrm>
            <a:off x="2133720" y="1676520"/>
            <a:ext cx="6324480" cy="4419360"/>
          </a:xfrm>
          <a:prstGeom prst="rect">
            <a:avLst/>
          </a:prstGeom>
          <a:noFill/>
          <a:ln w="0">
            <a:noFill/>
          </a:ln>
        </p:spPr>
        <p:txBody>
          <a:bodyPr lIns="90000" rIns="90000" tIns="46800" bIns="46800" anchor="t">
            <a:normAutofit fontScale="87000"/>
          </a:bodyPr>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re or conductor    </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or or other load</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lb                     voltmeter</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ery                  ammeter           </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witch                 generator</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84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145" name=""/>
          <p:cNvGraphicFramePr/>
          <p:nvPr/>
        </p:nvGraphicFramePr>
        <p:xfrm>
          <a:off x="228600" y="1752480"/>
          <a:ext cx="1397160" cy="2590920"/>
        </p:xfrm>
        <a:graphic>
          <a:graphicData uri="http://schemas.openxmlformats.org/presentationml/2006/ole">
            <p:oleObj r:id="rId1" spid="">
              <p:embed/>
              <p:pic>
                <p:nvPicPr>
                  <p:cNvPr id="146" name="" descr=""/>
                  <p:cNvPicPr/>
                  <p:nvPr/>
                </p:nvPicPr>
                <p:blipFill>
                  <a:blip r:embed="rId2"/>
                  <a:stretch/>
                </p:blipFill>
                <p:spPr>
                  <a:xfrm>
                    <a:off x="228600" y="1752480"/>
                    <a:ext cx="1397160" cy="2590920"/>
                  </a:xfrm>
                  <a:prstGeom prst="rect">
                    <a:avLst/>
                  </a:prstGeom>
                  <a:ln w="0">
                    <a:noFill/>
                  </a:ln>
                </p:spPr>
              </p:pic>
            </p:oleObj>
          </a:graphicData>
        </a:graphic>
      </p:graphicFrame>
      <p:graphicFrame>
        <p:nvGraphicFramePr>
          <p:cNvPr id="147" name=""/>
          <p:cNvGraphicFramePr/>
          <p:nvPr/>
        </p:nvGraphicFramePr>
        <p:xfrm>
          <a:off x="228600" y="4343400"/>
          <a:ext cx="1397160" cy="1600200"/>
        </p:xfrm>
        <a:graphic>
          <a:graphicData uri="http://schemas.openxmlformats.org/presentationml/2006/ole">
            <p:oleObj r:id="rId3" spid="">
              <p:embed/>
              <p:pic>
                <p:nvPicPr>
                  <p:cNvPr id="148" name="" descr=""/>
                  <p:cNvPicPr/>
                  <p:nvPr/>
                </p:nvPicPr>
                <p:blipFill>
                  <a:blip r:embed="rId4"/>
                  <a:stretch/>
                </p:blipFill>
                <p:spPr>
                  <a:xfrm>
                    <a:off x="228600" y="4343400"/>
                    <a:ext cx="1397160" cy="1600200"/>
                  </a:xfrm>
                  <a:prstGeom prst="rect">
                    <a:avLst/>
                  </a:prstGeom>
                  <a:ln w="0">
                    <a:noFill/>
                  </a:ln>
                </p:spPr>
              </p:pic>
            </p:oleObj>
          </a:graphicData>
        </a:graphic>
      </p:graphicFrame>
      <p:sp>
        <p:nvSpPr>
          <p:cNvPr id="149" name=""/>
          <p:cNvSpPr/>
          <p:nvPr/>
        </p:nvSpPr>
        <p:spPr>
          <a:xfrm>
            <a:off x="4724280" y="3429000"/>
            <a:ext cx="762120" cy="762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50" name=""/>
          <p:cNvSpPr/>
          <p:nvPr/>
        </p:nvSpPr>
        <p:spPr>
          <a:xfrm>
            <a:off x="4800600" y="4419720"/>
            <a:ext cx="76212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1" name=""/>
          <p:cNvSpPr/>
          <p:nvPr/>
        </p:nvSpPr>
        <p:spPr>
          <a:xfrm>
            <a:off x="4952880" y="5486400"/>
            <a:ext cx="60984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4648320" y="5257800"/>
            <a:ext cx="99036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876920" y="5943600"/>
            <a:ext cx="8380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6324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5638680" y="5028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F92C74-A9AB-40A0-B97D-500E641109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12:37:25Z</dcterms:created>
  <dc:creator>Division of Technology</dc:creator>
  <dc:description/>
  <dc:language>en-US</dc:language>
  <cp:lastModifiedBy>Division of Technology</cp:lastModifiedBy>
  <dcterms:modified xsi:type="dcterms:W3CDTF">2003-11-17T15:36:06Z</dcterms:modified>
  <cp:revision>9</cp:revision>
  <dc:subject/>
  <dc:title>CURRENT AND CIRCUITS</dc:title>
</cp:coreProperties>
</file>